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8.png" ContentType="image/png"/>
  <Override PartName="/ppt/media/image16.jpeg" ContentType="image/jpeg"/>
  <Override PartName="/ppt/media/image21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5540C-4044-44A0-9A6C-84CA7679921C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Sunčev sustav: https://www.youtube.com/watch?v=UEjXZNItv2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https://www.youtube.com/watch?v=EOnYvmrMYs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BF4F5-7686-4AE0-9117-4B2D5F3F4D31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Sunce ima 100 puta veći promjer nego Zemlja. Sunčeva masa je nekoliko stotina puta veća od svih planeta zajedno! Zato privlači sva tijela koja oko njega kruž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4F199-2D96-4F49-B1A5-57A28245B820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http://www.znanstvenik.com/mjesec-zemljin-prirodni-satlit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458E-4D88-4940-AEC8-3D16ED0EF9C4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Mjesečeve mijene: https://www.youtube.com/watch?v=7vUObZwLJ8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Mjesečeve mijene – simulacija: https://www.youtube.com/watch?v=OZIB_leg75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04202-C1F0-4912-B486-AB8D3698FF04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http://eskola.zvjezdarnica.hr/osnove-astronomije/suncev-sustav/veliki-planeti/mjesec/mjeseceve-i-sunceve-pomrcine/nastajanje-i-vrste-pomrcina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718F6-C584-4DD8-8F00-2ED5DD6CDDF7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SHVATITI POJAM SVEMIRA I SVEMISRKIH TIJELA I OPISATI POLOŽAJ ZEMLJE U SVEMIRU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-obrazložiti važnost Sunca za Zemlju (daje svjetlost i toplin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-opisati Sunčev sustav i nabrojati nazive plane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-razlikovati planet (svemirsko tijelo bez vlastite svjetlosti) od zvijezde (svemirsko tijelo s vlastitom svjetlošć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-razlikovati što su prirodni sateliti ili mjesec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-nabrojati Mjesečeve mije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CB566-267D-43E5-8273-35105B5D6E82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Više o svemiru na sljedećim linkovim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http://www.zvjezdarnica.com/mediji/crna-rupa/velika-enciklopedija-za-djecu-svemir/19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http://www.klinfo.hr/kutak-za-djecu/klub/hr/pregled/3/198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https://www.youtube.com/watch?v=3kdLmGauhw0 (dokumentarni film National geographic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Dokumentarni film Duboki svemir https://www.youtube.com/watch?v=iUVtnUJz3x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262CB-6D4A-4A72-B394-FF611D15BE6F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Dok su promatrali nebo, ljudima je ono izgledalo kao velika polukugla koja se nadvija nad Zemljom i na obzoru se s njome spaja. Mislili su da su zvijezde rupe u nebeskom svodu na kojemu su pričvršćeni Sunce i Mjese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2BB57-56CF-4EFD-9E7B-3454BC3CACFA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http://www.znanstvenik.com/svemir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30DDC-456E-416D-A86E-0CB0095580C6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O našoj galaksiji: http://www.adkoprivnica.hr/astro8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11E76-5C84-4610-AD39-9BF1FD422E2F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U Sunčevom sustavu je osam planeta, među kojima je i Zemlj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70F7F-64B6-41D4-A051-35A218086BC1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1230-EEF3-4CD5-97A3-7AA982ECF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390D-AFC3-4530-8CB9-81C8B1897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865B-DEA5-4A49-A6D8-3DB4A3942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97DE-3CA6-4189-A1AE-AFC55166D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379D7-2967-47B5-B3BD-8D2C04FE8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4FF1F-D9AE-49F7-B94A-DA23947E0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0C0D7-2649-45BE-8687-C75636296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05691-F8F7-4FDA-AB86-B9AA3CC4F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408A0-373E-4B1A-AEB8-210507C40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B27DA-F047-4A90-8007-242003596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08FD8-00F2-4621-8F88-1CCACD2B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4109-0BB1-4399-946E-D4A467294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CE214-2331-4D31-BC35-DC0072FF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06517-97C6-4032-8B2C-82099E24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BD9D8-8092-4839-95FF-54B3A5267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DED16-8087-47CB-B52D-AB11D3F60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2F981-79B7-46FF-92D3-8F9FD6AC6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CA833-23E6-451E-A00B-785A143E6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F6050-07D9-4D9B-8A8B-2146164F4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D384B-1311-4987-B369-65FF66A0E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B93F8-E7AF-4A2E-85C3-86EF4507A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6DA9B-A77E-4AC1-A021-60E9BF9D0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69DC-EFFC-458C-80DA-09B8B126E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B7895-121A-424E-A647-9903C5813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C779A-0C66-4417-B3EF-993FB865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BA79F-3E6A-4C44-95C9-38091670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6653D-4E91-4F13-8332-65C945A5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E181B-231C-450C-9049-F2D3D93B0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91C8B-0022-4093-B665-F543BE33C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F2BD4-3589-4240-BB4A-3644CE6B2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EF84-4B24-4ACD-AD80-263458EAF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D54E-13F7-445C-BE1C-735379A43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EAD8-593A-4A8E-A2BF-FA113985B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E55B-2470-47AD-89D2-51E64D95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8B8A-C4AA-4355-BA43-6C4021B80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27F5-DD82-4F41-9B0B-79DD0B56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47550-971A-4704-80CD-944F3E2442F0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EE8EB-F35E-46BA-AAE0-D021066ECFEE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F5DBC-1B71-4F9D-9729-C11E0DD34A11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rcRect l="0" t="3236" r="0" b="0"/>
          <a:stretch/>
        </p:blipFill>
        <p:spPr>
          <a:xfrm>
            <a:off x="0" y="104760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2560" y="1285560"/>
            <a:ext cx="4543560" cy="17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ff"/>
                </a:solidFill>
                <a:latin typeface="Calibri"/>
              </a:rPr>
              <a:t>Planeti Sunčevog sustava različito su udaljeni od Sunca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57200" y="1856880"/>
            <a:ext cx="568656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laneti Sunčevog sustava različite su velič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tvarni odnos veličine Sunca i planeta Sunčevog sustav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6715080" y="-58680"/>
            <a:ext cx="2428920" cy="7059600"/>
          </a:xfrm>
          <a:prstGeom prst="rect">
            <a:avLst/>
          </a:prstGeom>
          <a:ln w="0">
            <a:noFill/>
          </a:ln>
        </p:spPr>
      </p:pic>
      <p:sp>
        <p:nvSpPr>
          <p:cNvPr id="163" name="Right Arrow 4"/>
          <p:cNvSpPr/>
          <p:nvPr/>
        </p:nvSpPr>
        <p:spPr>
          <a:xfrm>
            <a:off x="4429080" y="5857920"/>
            <a:ext cx="2000160" cy="64296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8760" y="928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6600"/>
                </a:solidFill>
                <a:latin typeface="Calibri"/>
              </a:rPr>
              <a:t>Sunce – izvor živo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6840" y="1856880"/>
            <a:ext cx="2971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kreće sve prirodne poja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Utječe na tlo, biljni i životinjski svijet, na lju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6" descr="C:\Users\Svjetlana\AppData\Local\Microsoft\Windows\Temporary Internet Files\Content.IE5\MGU0FVWB\MP900448406[1].jpg"/>
          <p:cNvPicPr/>
          <p:nvPr/>
        </p:nvPicPr>
        <p:blipFill>
          <a:blip r:embed="rId1"/>
          <a:stretch/>
        </p:blipFill>
        <p:spPr>
          <a:xfrm>
            <a:off x="4714920" y="3857760"/>
            <a:ext cx="4286160" cy="28573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C:\Users\Svjetlana\Documents\školska knjiga\ppt predlosci i slike\smanjene\021_118026.jpg"/>
          <p:cNvPicPr/>
          <p:nvPr/>
        </p:nvPicPr>
        <p:blipFill>
          <a:blip r:embed="rId2"/>
          <a:stretch/>
        </p:blipFill>
        <p:spPr>
          <a:xfrm>
            <a:off x="5429160" y="1382760"/>
            <a:ext cx="3519720" cy="23353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C:\Users\Svjetlana\AppData\Local\Microsoft\Windows\Temporary Internet Files\Content.IE5\T32GWRZ0\MP900438749[1].jpg"/>
          <p:cNvPicPr/>
          <p:nvPr/>
        </p:nvPicPr>
        <p:blipFill>
          <a:blip r:embed="rId3"/>
          <a:stretch/>
        </p:blipFill>
        <p:spPr>
          <a:xfrm>
            <a:off x="5221440" y="1036800"/>
            <a:ext cx="3865320" cy="5778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2" descr="C:\Users\Svjetlana\Documents\školska knjiga\ppt predlosci i slike\smanjene\066_BAG0066E.jpg"/>
          <p:cNvPicPr/>
          <p:nvPr/>
        </p:nvPicPr>
        <p:blipFill>
          <a:blip r:embed="rId4"/>
          <a:stretch/>
        </p:blipFill>
        <p:spPr>
          <a:xfrm>
            <a:off x="3643200" y="3191040"/>
            <a:ext cx="550080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0" y="1571760"/>
            <a:ext cx="292896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75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700" spc="-1" strike="noStrike">
                <a:solidFill>
                  <a:srgbClr val="ff6600"/>
                </a:solidFill>
                <a:latin typeface="Calibri"/>
              </a:rPr>
              <a:t>mjeseci</a:t>
            </a:r>
            <a:r>
              <a:rPr b="0" lang="hr-HR" sz="2700" spc="-1" strike="noStrike">
                <a:solidFill>
                  <a:srgbClr val="000000"/>
                </a:solidFill>
                <a:latin typeface="Calibri"/>
              </a:rPr>
              <a:t> – manja svemirska tijela koja kruže oko planeta – </a:t>
            </a:r>
            <a:r>
              <a:rPr b="1" lang="hr-HR" sz="2700" spc="-1" strike="noStrike">
                <a:solidFill>
                  <a:srgbClr val="ff6600"/>
                </a:solidFill>
                <a:latin typeface="Calibri"/>
              </a:rPr>
              <a:t>prirodni sateliti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75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700" spc="-1" strike="noStrike">
                <a:solidFill>
                  <a:srgbClr val="ff6600"/>
                </a:solidFill>
                <a:latin typeface="Calibri"/>
              </a:rPr>
              <a:t>Mjesec</a:t>
            </a:r>
            <a:r>
              <a:rPr b="1" lang="hr-HR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700" spc="-1" strike="noStrike">
                <a:solidFill>
                  <a:srgbClr val="000000"/>
                </a:solidFill>
                <a:latin typeface="Calibri"/>
              </a:rPr>
              <a:t>– Zemljin prirodni sateli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2" descr="C:\Users\Svjetlana\Documents\školska knjiga\ppt predlosci i slike\smanjene\004_SPX0042E.jpg"/>
          <p:cNvPicPr/>
          <p:nvPr/>
        </p:nvPicPr>
        <p:blipFill>
          <a:blip r:embed="rId1"/>
          <a:stretch/>
        </p:blipFill>
        <p:spPr>
          <a:xfrm>
            <a:off x="3000240" y="1000080"/>
            <a:ext cx="678672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85480" y="999720"/>
            <a:ext cx="240012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Calibri"/>
              </a:rPr>
              <a:t>mjeseci nemaju vlastitu svjetlos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Calibri"/>
              </a:rPr>
              <a:t>Vidimo samo obasjanu stranu Mjeseca koja je okrenuta prema Zemlj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2" descr="C:\Users\Svjetlana\Documents\školska knjiga\ppt predlosci i slike\smanjene\004_SPX0042E.jpg"/>
          <p:cNvPicPr/>
          <p:nvPr/>
        </p:nvPicPr>
        <p:blipFill>
          <a:blip r:embed="rId1"/>
          <a:stretch/>
        </p:blipFill>
        <p:spPr>
          <a:xfrm>
            <a:off x="3000240" y="1000080"/>
            <a:ext cx="678672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ff6600"/>
                </a:solidFill>
                <a:latin typeface="Calibri"/>
              </a:rPr>
              <a:t>Umjetni sateliti </a:t>
            </a:r>
            <a:r>
              <a:rPr b="0" lang="hr-HR" sz="3000" spc="-1" strike="noStrike">
                <a:solidFill>
                  <a:srgbClr val="ff6600"/>
                </a:solidFill>
                <a:latin typeface="Calibri"/>
              </a:rPr>
              <a:t>– naprave koje je čovjek poslao u svemir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3" descr="C:\Users\Svjetlana\Documents\školska knjiga\ppt predlosci i slike\smanjene\011_BXP46174.jpg"/>
          <p:cNvPicPr/>
          <p:nvPr/>
        </p:nvPicPr>
        <p:blipFill>
          <a:blip r:embed="rId1"/>
          <a:stretch/>
        </p:blipFill>
        <p:spPr>
          <a:xfrm>
            <a:off x="4956120" y="3500280"/>
            <a:ext cx="4044960" cy="32864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C:\Users\Svjetlana\Documents\školska knjiga\ppt predlosci i slike\smanjene\088_sh1821845.jpg"/>
          <p:cNvPicPr/>
          <p:nvPr/>
        </p:nvPicPr>
        <p:blipFill>
          <a:blip r:embed="rId2"/>
          <a:stretch/>
        </p:blipFill>
        <p:spPr>
          <a:xfrm>
            <a:off x="214200" y="1857240"/>
            <a:ext cx="4953240" cy="3714840"/>
          </a:xfrm>
          <a:prstGeom prst="rect">
            <a:avLst/>
          </a:prstGeom>
          <a:ln w="0">
            <a:noFill/>
          </a:ln>
        </p:spPr>
      </p:pic>
      <p:sp>
        <p:nvSpPr>
          <p:cNvPr id="178" name="TextBox 5"/>
          <p:cNvSpPr/>
          <p:nvPr/>
        </p:nvSpPr>
        <p:spPr>
          <a:xfrm>
            <a:off x="5357880" y="1857240"/>
            <a:ext cx="3571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  <a:ea typeface="Arial"/>
              </a:rPr>
              <a:t>Služe za uspostavu telekomunikacijsk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  <a:ea typeface="Arial"/>
              </a:rPr>
              <a:t>veza, snimanje Zemlj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  <a:ea typeface="Arial"/>
              </a:rPr>
              <a:t>Istraživanje svemi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57120" y="78588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6600"/>
                </a:solidFill>
                <a:latin typeface="Calibri"/>
              </a:rPr>
              <a:t>Mjesečeve mije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928520"/>
            <a:ext cx="31860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Četiri osnovna položaja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Mlađ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rva četv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Ušta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Zadnja četv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Izmjena – 29 i pol d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3514680" y="1066680"/>
            <a:ext cx="56293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6600"/>
                </a:solidFill>
                <a:latin typeface="Calibri"/>
              </a:rPr>
              <a:t>Pomrčina Mjese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Zemlja se za uštapa nađe između Sunca i Mjeseca i zakloni ga svojom sjen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2" descr="C:\Users\Svjetlana\Downloads\004_000016080.jpg"/>
          <p:cNvPicPr/>
          <p:nvPr/>
        </p:nvPicPr>
        <p:blipFill>
          <a:blip r:embed="rId1"/>
          <a:stretch/>
        </p:blipFill>
        <p:spPr>
          <a:xfrm>
            <a:off x="-28440" y="4100400"/>
            <a:ext cx="9208800" cy="21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85640" y="1071720"/>
            <a:ext cx="82296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6600"/>
                </a:solidFill>
                <a:latin typeface="Calibri"/>
              </a:rPr>
              <a:t>Pomrčina Sun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6840" y="2071800"/>
            <a:ext cx="532908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Mjesec za mlađaka dođe između Sunca i Zeml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2" descr="C:\Users\Svjetlana\Downloads\004_000016081.jpg"/>
          <p:cNvPicPr/>
          <p:nvPr/>
        </p:nvPicPr>
        <p:blipFill>
          <a:blip r:embed="rId1"/>
          <a:stretch/>
        </p:blipFill>
        <p:spPr>
          <a:xfrm>
            <a:off x="-73080" y="4429080"/>
            <a:ext cx="9331560" cy="22147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C:\Users\Svjetlana\Documents\školska knjiga\ppt predlosci i slike\originali\004_SPX0047E.JPG"/>
          <p:cNvPicPr/>
          <p:nvPr/>
        </p:nvPicPr>
        <p:blipFill>
          <a:blip r:embed="rId2"/>
          <a:stretch/>
        </p:blipFill>
        <p:spPr>
          <a:xfrm>
            <a:off x="5929200" y="1857240"/>
            <a:ext cx="304488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Ponavljan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oja je razlika između zvijezda i planet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ojoj skupini pripada Zemlja, a kojoj Sun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28800" y="3929040"/>
            <a:ext cx="3000240" cy="25718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" descr=""/>
          <p:cNvPicPr/>
          <p:nvPr/>
        </p:nvPicPr>
        <p:blipFill>
          <a:blip r:embed="rId2"/>
          <a:stretch/>
        </p:blipFill>
        <p:spPr>
          <a:xfrm>
            <a:off x="5643720" y="3902040"/>
            <a:ext cx="250020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9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Zemlja u svemir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Calibri"/>
              </a:rPr>
              <a:t>Zemlja u svemi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2500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alibri"/>
              </a:rPr>
              <a:t>Ponavljanj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200016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Calibri"/>
              </a:rPr>
              <a:t>Na kojem je mjestu po udaljenosti od Sunca naš planet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Calibri"/>
              </a:rPr>
              <a:t>Koji je najveći planet Sunčevog sustava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1928880" y="2928960"/>
            <a:ext cx="56656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alibri"/>
              </a:rPr>
              <a:t>Što su to prirodni, a što umjetni sateliti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2" descr="C:\Users\Svjetlana\Documents\školska knjiga\ppt predlosci i slike\smanjene\004_SPX0042E.jpg"/>
          <p:cNvPicPr/>
          <p:nvPr/>
        </p:nvPicPr>
        <p:blipFill>
          <a:blip r:embed="rId1"/>
          <a:stretch/>
        </p:blipFill>
        <p:spPr>
          <a:xfrm>
            <a:off x="158760" y="2638440"/>
            <a:ext cx="3770280" cy="38624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C:\Users\Svjetlana\Documents\školska knjiga\ppt predlosci i slike\smanjene\088_sh1821845.jpg"/>
          <p:cNvPicPr/>
          <p:nvPr/>
        </p:nvPicPr>
        <p:blipFill>
          <a:blip r:embed="rId2"/>
          <a:stretch/>
        </p:blipFill>
        <p:spPr>
          <a:xfrm>
            <a:off x="4000680" y="2714760"/>
            <a:ext cx="495288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125360"/>
            <a:ext cx="332892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Navedite Mjesečeve mijene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3429000" y="1143000"/>
            <a:ext cx="5572080" cy="59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6" descr="C:\Users\Svjetlana\Documents\školska knjiga\ppt predlosci i slike\smanjene\004_4220.jpg"/>
          <p:cNvPicPr/>
          <p:nvPr/>
        </p:nvPicPr>
        <p:blipFill>
          <a:blip r:embed="rId1"/>
          <a:stretch/>
        </p:blipFill>
        <p:spPr>
          <a:xfrm>
            <a:off x="-142920" y="1000080"/>
            <a:ext cx="9358200" cy="61768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222480" y="1214280"/>
            <a:ext cx="301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alibri"/>
                <a:ea typeface="Arial"/>
              </a:rPr>
              <a:t>Što možete vidje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alibri"/>
                <a:ea typeface="Arial"/>
              </a:rPr>
              <a:t>na vedrom noćnom nebu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6220080" y="6072120"/>
            <a:ext cx="216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Calibri"/>
                <a:ea typeface="Arial"/>
              </a:rPr>
              <a:t>Što su zvijez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218880" y="4572000"/>
            <a:ext cx="383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Calibri"/>
                <a:ea typeface="Arial"/>
              </a:rPr>
              <a:t>Koja je razlika između zemlje i Zemlj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Calibri"/>
                <a:ea typeface="Arial"/>
              </a:rPr>
              <a:t>Između mjeseca i Mjesec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Calibri"/>
                <a:ea typeface="Arial"/>
              </a:rPr>
              <a:t>Između sunca i Sunc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5864400" y="3000240"/>
            <a:ext cx="28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alibri"/>
                <a:ea typeface="Arial"/>
              </a:rPr>
              <a:t>Vidimo li noću Mjese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alibri"/>
                <a:ea typeface="Arial"/>
              </a:rPr>
              <a:t>uvijek  na istome mjest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8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Srednjovjekovna predožba svemira – Zemlja je u središtu svemir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2" descr="C:\Users\Svjetlana\Documents\školska knjiga\ppt predlosci i slike\smanjene\004_13174.jpg"/>
          <p:cNvPicPr/>
          <p:nvPr/>
        </p:nvPicPr>
        <p:blipFill>
          <a:blip r:embed="rId1"/>
          <a:stretch/>
        </p:blipFill>
        <p:spPr>
          <a:xfrm>
            <a:off x="2000160" y="2143080"/>
            <a:ext cx="5548320" cy="4643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C:\Users\Svjetlana\AppData\Local\Microsoft\Windows\Temporary Internet Files\Content.IE5\Z0S938IK\MP900442298[1].jpg"/>
          <p:cNvPicPr/>
          <p:nvPr/>
        </p:nvPicPr>
        <p:blipFill>
          <a:blip r:embed="rId2"/>
          <a:stretch/>
        </p:blipFill>
        <p:spPr>
          <a:xfrm>
            <a:off x="-3714840" y="1928880"/>
            <a:ext cx="298620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2" descr="C:\Users\Svjetlana\Documents\školska knjiga\ppt predlosci i slike\smanjene\004_BXP46179.jpg"/>
          <p:cNvPicPr/>
          <p:nvPr/>
        </p:nvPicPr>
        <p:blipFill>
          <a:blip r:embed="rId1"/>
          <a:stretch/>
        </p:blipFill>
        <p:spPr>
          <a:xfrm>
            <a:off x="-857160" y="982800"/>
            <a:ext cx="10358280" cy="58752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5"/>
          <p:cNvSpPr/>
          <p:nvPr/>
        </p:nvSpPr>
        <p:spPr>
          <a:xfrm>
            <a:off x="571680" y="1214280"/>
            <a:ext cx="785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Calibri"/>
                <a:ea typeface="Arial"/>
              </a:rPr>
              <a:t>Zemlja se nalazi u beskonačnom prostranstvu – svemir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25000"/>
            <a:ext cx="8229600" cy="66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ff6600"/>
                </a:solidFill>
                <a:latin typeface="Calibri"/>
              </a:rPr>
              <a:t>Galaktika</a:t>
            </a:r>
            <a:r>
              <a:rPr b="0" lang="hr-HR" sz="4000" spc="-1" strike="noStrike">
                <a:solidFill>
                  <a:srgbClr val="ff6600"/>
                </a:solidFill>
                <a:latin typeface="Calibri"/>
              </a:rPr>
              <a:t> – nakupina zvijezd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803240"/>
            <a:ext cx="8229600" cy="41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Naša galaktika zove se </a:t>
            </a:r>
            <a:r>
              <a:rPr b="1" lang="hr-HR" sz="3200" spc="-1" strike="noStrike">
                <a:solidFill>
                  <a:srgbClr val="ff6600"/>
                </a:solidFill>
                <a:latin typeface="Calibri"/>
              </a:rPr>
              <a:t>Mliječna staza (Kumova slam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1571760" y="2928960"/>
            <a:ext cx="629604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285480" y="1071720"/>
            <a:ext cx="307188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U galaktici ima oko 100 milijardi zvijezda.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... a u svemiru ima oko 100 milijardi galaksija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2" descr="C:\Users\Svjetlana\Documents\školska knjiga\ppt predlosci i slike\smanjene\004_000018227.jpg"/>
          <p:cNvPicPr/>
          <p:nvPr/>
        </p:nvPicPr>
        <p:blipFill>
          <a:blip r:embed="rId1"/>
          <a:stretch/>
        </p:blipFill>
        <p:spPr>
          <a:xfrm>
            <a:off x="3429000" y="1208160"/>
            <a:ext cx="542916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125000"/>
            <a:ext cx="8229600" cy="94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6600"/>
                </a:solidFill>
                <a:latin typeface="Calibri"/>
              </a:rPr>
              <a:t>Sunčev sustav </a:t>
            </a:r>
            <a:r>
              <a:rPr b="0" lang="hr-HR" sz="3600" spc="-1" strike="noStrike">
                <a:solidFill>
                  <a:srgbClr val="ff6600"/>
                </a:solidFill>
                <a:latin typeface="Calibri"/>
              </a:rPr>
              <a:t>– Sunce i svemirska tijela koja oko njega kruž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785880" y="2176560"/>
            <a:ext cx="757224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6840" y="1143000"/>
            <a:ext cx="404028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6600"/>
                </a:solidFill>
                <a:latin typeface="Calibri"/>
              </a:rPr>
              <a:t>ZVIJEZ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Užarena svemirska tijela velike temperature i vlastite svjetl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44720" y="1143000"/>
            <a:ext cx="404172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6600"/>
                </a:solidFill>
                <a:latin typeface="Calibri"/>
              </a:rPr>
              <a:t>PLANE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Svemirska tijela bez vlastite temperature i svjetl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928800" y="3929040"/>
            <a:ext cx="3000240" cy="25718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"/>
          <p:cNvPicPr/>
          <p:nvPr/>
        </p:nvPicPr>
        <p:blipFill>
          <a:blip r:embed="rId2"/>
          <a:stretch/>
        </p:blipFill>
        <p:spPr>
          <a:xfrm>
            <a:off x="5643720" y="3902040"/>
            <a:ext cx="250020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9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7T01:31:03Z</dcterms:created>
  <dc:creator>Ivica</dc:creator>
  <dc:description/>
  <dc:language>en-US</dc:language>
  <cp:lastModifiedBy>Ucenik</cp:lastModifiedBy>
  <dcterms:modified xsi:type="dcterms:W3CDTF">2017-11-04T09:15:56Z</dcterms:modified>
  <cp:revision>29</cp:revision>
  <dc:subject/>
  <dc:title>Slajd 1</dc:title>
</cp:coreProperties>
</file>