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27.jpeg" ContentType="image/jpeg"/>
  <Override PartName="/ppt/media/image5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4.jpeg" ContentType="image/jpeg"/>
  <Override PartName="/ppt/media/image28.png" ContentType="image/png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1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26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r-Latn-C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B35EF-C36D-45F7-88E8-F37DE51B3FC9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čev sustav: https://www.youtube.com/watch?v=UEjXZNItv2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EOnYvmrMYs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D35BB-9A5B-4C0B-AF54-B86C4D278A3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unce ima 100 puta veći promjer nego Zemlja. Sunčeva masa je nekoliko stotina puta veća od svih planeta zajedno! Zato privlači sva tijela koja oko njega kruž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34938-FD0D-4D7E-A680-A78B44D0C960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mjesec-zemljin-prirodni-satlit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C6285-22CF-48C6-ADF3-CE31E864C0AF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: https://www.youtube.com/watch?v=7vUObZwLJ8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Mjesečeve mijene – simulacija: https://www.youtube.com/watch?v=OZIB_leg75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A1A14-C1AE-419A-997E-B9B836194A7C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eskola.zvjezdarnica.hr/osnove-astronomije/suncev-sustav/veliki-planeti/mjesec/mjeseceve-i-sunceve-pomrcine/nastajanje-i-vrste-pomrcina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2C14B-58DF-4E2C-9E33-21AA86342C22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SHVATITI POJAM SVEMIRA I SVEMISRKIH TIJELA I OPISATI POLOŽAJ ZEMLJE U SVEMIRU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brazložiti važnost Sunca za Zemlju (daje svjetlost i toplin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opisati Sunčev sustav i nabrojati nazive plane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planet (svemirsko tijelo bez vlastite svjetlosti) od zvijezde (svemirsko tijelo s vlastitom svjetlošću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razlikovati što su prirodni sateliti ili mjese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-nabrojati Mjesečeve mije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3859F-0AE9-47D8-95CB-B6E0D55DE6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Više o svemiru na sljedećim linkovima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vjezdarnica.com/mediji/crna-rupa/velika-enciklopedija-za-djecu-svemir/19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klinfo.hr/kutak-za-djecu/klub/hr/pregled/3/198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s://www.youtube.com/watch?v=3kdLmGauhw0 (dokumentarni film National geographica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umentarni film Duboki svemir https://www.youtube.com/watch?v=iUVtnUJz3xw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F667-DDF7-4F78-B7F3-EB57FFC294CD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Dok su promatrali nebo, ljudima je ono izgledalo kao velika polukugla koja se nadvija nad Zemljom i na obzoru se s njome spaja. Mislili su da su zvijezde rupe u nebeskom svodu na kojemu su pričvršćeni Sunce i Mjese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2711F-1380-41F7-BDEF-88AF00823BBE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http://www.znanstvenik.com/svemir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860B3-C55C-4FB3-9265-E531EBA0C52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O našoj galaksiji: http://www.adkoprivnica.hr/astro8.ht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76679-B106-4D7C-9EDF-62C5606347DB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000000"/>
                </a:solidFill>
                <a:latin typeface="Calibri"/>
              </a:rPr>
              <a:t>U Sunčevom sustavu je osam planeta, među kojima je i Zemlj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1EB46-147E-4287-BB93-5F2EEEE11473}" type="slidenum">
              <a:rPr b="0" lang="hr-H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4A44-1738-41FC-831F-1A139B21C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374D3-8971-4474-BD9C-85BDE10AB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BC58-3C33-4BB1-9622-CD0D3509A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B65D-9262-44ED-9EE5-2DE3B010A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5F33B-AB46-4DA5-8F6E-3E29E647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B5677-C964-4E51-9F0E-878EE3651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F136-6358-4D6F-935F-19AA66999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97BF3-FFF1-4BE4-871E-74C0EEA8C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1EF8-01C2-4279-8116-FCAB4F8C5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244F-9AD5-4E17-8F28-032BDF450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1ECDB-B428-4D98-9BF1-E97FEFD2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0C33-3621-4B86-8629-4C238466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0B099-F11D-4559-9826-6F7BFB448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358C-3E88-457F-8DF0-35CB7EC94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0BB7B-E4B0-44F3-8444-6E5D5330F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FF978-2EE7-4605-A63E-38D9CFEFE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1A823-97AE-4A29-B18C-4D8BB5527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76DE3-CF8A-4FA0-90D1-17BA81801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1A0D82-959D-469D-B40E-EA5DEA4BF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6126C8-C01F-47B3-BF95-88040D31F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B1AF91-D256-4814-9362-90BCDC0D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6DA5E3-9483-42AB-B6D8-A64C6A37E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EDD88-AB62-470D-B81F-9CF4C0587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D28DF8-6FB7-44EF-BB7A-362B3FB50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8339EB-EEDA-4A46-975E-57543D3D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4D8F2B-E311-444C-B0EE-D825F8AD1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04F75-12F6-4D43-8174-998FD281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524C3-B63F-464E-A22A-912B24A7D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51F272-0BF5-4EA1-A2D3-8798C24CD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F6C92B-9927-4529-87DD-6264475CE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D00A8-BD8A-4ED3-B42C-BADFDA050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DE19-ADF6-45C5-B790-6268D9BF5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974D-AC0F-435D-A62D-A7A7B18F5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FB1A-FC02-4ACC-93AF-E74DD0AD7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F9BAF-F23B-4D90-BC00-6D00945A5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BDD9-4FED-46B7-B282-5A093DC40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C42D8-2C30-498F-90B9-8D29A93593C9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DE2A-83EA-4FC0-ABF2-3A71FE1834C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r-H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A6C93-F7B5-4A58-A5DD-511D08C22C90}" type="slidenum">
              <a:rPr b="0" lang="hr-H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0" t="3236" r="0" b="0"/>
          <a:stretch/>
        </p:blipFill>
        <p:spPr>
          <a:xfrm>
            <a:off x="0" y="1047600"/>
            <a:ext cx="9144000" cy="609624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42560" y="1285560"/>
            <a:ext cx="4543560" cy="173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ffff"/>
                </a:solidFill>
                <a:latin typeface="Calibri"/>
              </a:rPr>
              <a:t>Planeti Sunčevog sustava različito su udaljeni od Sunca.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457200" y="1856880"/>
            <a:ext cx="568656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laneti Sunčevog sustava različite su velič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Stvarni odnos veličine Sunca i planeta Sunčevog sustav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6715080" y="-58680"/>
            <a:ext cx="2428920" cy="7059600"/>
          </a:xfrm>
          <a:prstGeom prst="rect">
            <a:avLst/>
          </a:prstGeom>
          <a:ln w="0">
            <a:noFill/>
          </a:ln>
        </p:spPr>
      </p:pic>
      <p:sp>
        <p:nvSpPr>
          <p:cNvPr id="163" name="Right Arrow 4"/>
          <p:cNvSpPr/>
          <p:nvPr/>
        </p:nvSpPr>
        <p:spPr>
          <a:xfrm>
            <a:off x="4429080" y="5857920"/>
            <a:ext cx="2000160" cy="64296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fbfb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1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3" dur="500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28760" y="9284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Sunce – izvor život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56840" y="1856880"/>
            <a:ext cx="297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okreće sve prirodne poja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tječe na tlo, biljni i životinjski svijet, na lj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6" name="Picture 6" descr="C:\Users\Svjetlana\AppData\Local\Microsoft\Windows\Temporary Internet Files\Content.IE5\MGU0FVWB\MP900448406[1].jpg"/>
          <p:cNvPicPr/>
          <p:nvPr/>
        </p:nvPicPr>
        <p:blipFill>
          <a:blip r:embed="rId1"/>
          <a:stretch/>
        </p:blipFill>
        <p:spPr>
          <a:xfrm>
            <a:off x="4714920" y="385776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C:\Users\Svjetlana\Documents\školska knjiga\ppt predlosci i slike\smanjene\021_118026.jpg"/>
          <p:cNvPicPr/>
          <p:nvPr/>
        </p:nvPicPr>
        <p:blipFill>
          <a:blip r:embed="rId2"/>
          <a:stretch/>
        </p:blipFill>
        <p:spPr>
          <a:xfrm>
            <a:off x="5429160" y="1382760"/>
            <a:ext cx="3519720" cy="2335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9" descr="C:\Users\Svjetlana\AppData\Local\Microsoft\Windows\Temporary Internet Files\Content.IE5\T32GWRZ0\MP900438749[1].jpg"/>
          <p:cNvPicPr/>
          <p:nvPr/>
        </p:nvPicPr>
        <p:blipFill>
          <a:blip r:embed="rId3"/>
          <a:stretch/>
        </p:blipFill>
        <p:spPr>
          <a:xfrm>
            <a:off x="5221440" y="1036800"/>
            <a:ext cx="3865320" cy="577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2" descr="C:\Users\Svjetlana\Documents\školska knjiga\ppt predlosci i slike\smanjene\066_BAG0066E.jpg"/>
          <p:cNvPicPr/>
          <p:nvPr/>
        </p:nvPicPr>
        <p:blipFill>
          <a:blip r:embed="rId4"/>
          <a:stretch/>
        </p:blipFill>
        <p:spPr>
          <a:xfrm>
            <a:off x="3643200" y="3191040"/>
            <a:ext cx="5500800" cy="36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0" y="1571760"/>
            <a:ext cx="29289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i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 – manja svemirska tijela koja kruže oko planeta – </a:t>
            </a: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prirodni sateliti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75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700" spc="-1" strike="noStrike">
                <a:solidFill>
                  <a:srgbClr val="ff6600"/>
                </a:solidFill>
                <a:latin typeface="Calibri"/>
              </a:rPr>
              <a:t>Mjesec</a:t>
            </a:r>
            <a:r>
              <a:rPr b="1" lang="hr-HR" sz="27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2700" spc="-1" strike="noStrike">
                <a:solidFill>
                  <a:srgbClr val="000000"/>
                </a:solidFill>
                <a:latin typeface="Calibri"/>
              </a:rPr>
              <a:t>– Zemljin prirodni satelit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1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480" y="999720"/>
            <a:ext cx="24001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mjeseci nemaju vlastitu svjetlos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Vidimo samo obasjanu stranu Mjeseca koja je okrenuta prema Zemlji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3000240" y="1000080"/>
            <a:ext cx="678672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8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3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999720"/>
            <a:ext cx="91440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000" spc="-1" strike="noStrike">
                <a:solidFill>
                  <a:srgbClr val="ff6600"/>
                </a:solidFill>
                <a:latin typeface="Calibri"/>
              </a:rPr>
              <a:t>Umjetni sateliti </a:t>
            </a:r>
            <a:r>
              <a:rPr b="0" lang="hr-HR" sz="3000" spc="-1" strike="noStrike">
                <a:solidFill>
                  <a:srgbClr val="ff6600"/>
                </a:solidFill>
                <a:latin typeface="Calibri"/>
              </a:rPr>
              <a:t>– naprave koje je čovjek poslao u svemir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6" name="Picture 3" descr="C:\Users\Svjetlana\Documents\školska knjiga\ppt predlosci i slike\smanjene\011_BXP46174.jpg"/>
          <p:cNvPicPr/>
          <p:nvPr/>
        </p:nvPicPr>
        <p:blipFill>
          <a:blip r:embed="rId1"/>
          <a:stretch/>
        </p:blipFill>
        <p:spPr>
          <a:xfrm>
            <a:off x="4956120" y="3500280"/>
            <a:ext cx="4044960" cy="32864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214200" y="1857240"/>
            <a:ext cx="4953240" cy="3714840"/>
          </a:xfrm>
          <a:prstGeom prst="rect">
            <a:avLst/>
          </a:prstGeom>
          <a:ln w="0">
            <a:noFill/>
          </a:ln>
        </p:spPr>
      </p:pic>
      <p:sp>
        <p:nvSpPr>
          <p:cNvPr id="178" name="TextBox 5"/>
          <p:cNvSpPr/>
          <p:nvPr/>
        </p:nvSpPr>
        <p:spPr>
          <a:xfrm>
            <a:off x="5357880" y="1857240"/>
            <a:ext cx="3571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Služe za uspostavu telekomunikacijsk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veza, snimanje Zemlj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400" spc="-1" strike="noStrike">
                <a:solidFill>
                  <a:srgbClr val="000000"/>
                </a:solidFill>
                <a:latin typeface="Calibri"/>
                <a:ea typeface="Arial"/>
              </a:rPr>
              <a:t>Istraživanje svemi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57120" y="78588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Mjesečeve mijen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57200" y="1928520"/>
            <a:ext cx="31860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Četiri osnovna položaja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lađ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Prv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šta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adnja četv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Izmjena – 29 i pol da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3514680" y="1066680"/>
            <a:ext cx="56293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ff6600"/>
                </a:solidFill>
                <a:latin typeface="Calibri"/>
              </a:rPr>
              <a:t>Pomrčina Mjese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Zemlja se za uštapa nađe između Sunca i Mjeseca i zakloni ga svojom sjen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2" descr="C:\Users\Svjetlana\Downloads\004_000016080.jpg"/>
          <p:cNvPicPr/>
          <p:nvPr/>
        </p:nvPicPr>
        <p:blipFill>
          <a:blip r:embed="rId1"/>
          <a:stretch/>
        </p:blipFill>
        <p:spPr>
          <a:xfrm>
            <a:off x="-28440" y="4100400"/>
            <a:ext cx="9208800" cy="21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85640" y="1071720"/>
            <a:ext cx="82296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Pomrčina Sun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456840" y="2071800"/>
            <a:ext cx="53290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Mjesec za mlađaka dođe između Sunca i Zemlj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C:\Users\Svjetlana\Downloads\004_000016081.jpg"/>
          <p:cNvPicPr/>
          <p:nvPr/>
        </p:nvPicPr>
        <p:blipFill>
          <a:blip r:embed="rId1"/>
          <a:stretch/>
        </p:blipFill>
        <p:spPr>
          <a:xfrm>
            <a:off x="-73080" y="4429080"/>
            <a:ext cx="9331560" cy="22147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C:\Users\Svjetlana\Documents\školska knjiga\ppt predlosci i slike\originali\004_SPX0047E.JPG"/>
          <p:cNvPicPr/>
          <p:nvPr/>
        </p:nvPicPr>
        <p:blipFill>
          <a:blip r:embed="rId2"/>
          <a:stretch/>
        </p:blipFill>
        <p:spPr>
          <a:xfrm>
            <a:off x="5929200" y="1857240"/>
            <a:ext cx="3044880" cy="24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6" dur="5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1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a je razlika između zvijezda i planeta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Kojoj skupini pripada Zemlja, a kojoj Sunc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9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Zemlja u svemir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898989"/>
                </a:solidFill>
                <a:latin typeface="Calibri"/>
              </a:rPr>
              <a:t>Zemlja u svemir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Ponavljanj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2000160"/>
            <a:ext cx="8229600" cy="10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Na kojem je mjestu po udaljenosti od Sunca naš planet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500" spc="-1" strike="noStrike">
                <a:solidFill>
                  <a:srgbClr val="000000"/>
                </a:solidFill>
                <a:latin typeface="Calibri"/>
              </a:rPr>
              <a:t>Koji je najveći planet Sunčevog sustava?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1928880" y="2928960"/>
            <a:ext cx="56656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000" spc="-1" strike="noStrike">
                <a:solidFill>
                  <a:srgbClr val="000000"/>
                </a:solidFill>
                <a:latin typeface="Calibri"/>
              </a:rPr>
              <a:t>Što su to prirodni, a što umjetni sateliti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Picture 2" descr="C:\Users\Svjetlana\Documents\školska knjiga\ppt predlosci i slike\smanjene\004_SPX0042E.jpg"/>
          <p:cNvPicPr/>
          <p:nvPr/>
        </p:nvPicPr>
        <p:blipFill>
          <a:blip r:embed="rId1"/>
          <a:stretch/>
        </p:blipFill>
        <p:spPr>
          <a:xfrm>
            <a:off x="158760" y="2638440"/>
            <a:ext cx="3770280" cy="386244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C:\Users\Svjetlana\Documents\školska knjiga\ppt predlosci i slike\smanjene\088_sh1821845.jpg"/>
          <p:cNvPicPr/>
          <p:nvPr/>
        </p:nvPicPr>
        <p:blipFill>
          <a:blip r:embed="rId2"/>
          <a:stretch/>
        </p:blipFill>
        <p:spPr>
          <a:xfrm>
            <a:off x="4000680" y="2714760"/>
            <a:ext cx="495288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1125360"/>
            <a:ext cx="332892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4400" spc="-1" strike="noStrike">
                <a:solidFill>
                  <a:srgbClr val="000000"/>
                </a:solidFill>
                <a:latin typeface="Calibri"/>
              </a:rPr>
              <a:t>Navedite Mjesečeve mijene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1" name="Picture 2" descr=""/>
          <p:cNvPicPr/>
          <p:nvPr/>
        </p:nvPicPr>
        <p:blipFill>
          <a:blip r:embed="rId1"/>
          <a:stretch/>
        </p:blipFill>
        <p:spPr>
          <a:xfrm>
            <a:off x="3429000" y="1143000"/>
            <a:ext cx="5572080" cy="59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6" descr="C:\Users\Svjetlana\Documents\školska knjiga\ppt predlosci i slike\smanjene\004_4220.jpg"/>
          <p:cNvPicPr/>
          <p:nvPr/>
        </p:nvPicPr>
        <p:blipFill>
          <a:blip r:embed="rId1"/>
          <a:stretch/>
        </p:blipFill>
        <p:spPr>
          <a:xfrm>
            <a:off x="-142920" y="1000080"/>
            <a:ext cx="9358200" cy="6176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222480" y="1214280"/>
            <a:ext cx="301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Što možete vidje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na vedrom noćnom nebu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Box 5"/>
          <p:cNvSpPr/>
          <p:nvPr/>
        </p:nvSpPr>
        <p:spPr>
          <a:xfrm>
            <a:off x="6220080" y="6072120"/>
            <a:ext cx="216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400" spc="-1" strike="noStrike">
                <a:solidFill>
                  <a:srgbClr val="ffffff"/>
                </a:solidFill>
                <a:latin typeface="Calibri"/>
                <a:ea typeface="Arial"/>
              </a:rPr>
              <a:t>Što su zvijez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6"/>
          <p:cNvSpPr/>
          <p:nvPr/>
        </p:nvSpPr>
        <p:spPr>
          <a:xfrm>
            <a:off x="218880" y="4572000"/>
            <a:ext cx="383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Koja je razlika između zemlje i Zemlj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mjeseca i Mjese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1800" spc="-1" strike="noStrike">
                <a:solidFill>
                  <a:srgbClr val="ffffff"/>
                </a:solidFill>
                <a:latin typeface="Calibri"/>
                <a:ea typeface="Arial"/>
              </a:rPr>
              <a:t>Između sunca i Sunc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Box 7"/>
          <p:cNvSpPr/>
          <p:nvPr/>
        </p:nvSpPr>
        <p:spPr>
          <a:xfrm>
            <a:off x="5864400" y="3000240"/>
            <a:ext cx="28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Vidimo li noću Mjesec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2000" spc="-1" strike="noStrike">
                <a:solidFill>
                  <a:srgbClr val="ffffff"/>
                </a:solidFill>
                <a:latin typeface="Calibri"/>
                <a:ea typeface="Arial"/>
              </a:rPr>
              <a:t>uvijek  na istome mjestu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0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600" spc="-1" strike="noStrike">
                <a:solidFill>
                  <a:srgbClr val="000000"/>
                </a:solidFill>
                <a:latin typeface="Calibri"/>
              </a:rPr>
              <a:t>Srednjovjekovna predožba svemira – Zemlja je u središtu svemira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9" name="Picture 2" descr="C:\Users\Svjetlana\Documents\školska knjiga\ppt predlosci i slike\smanjene\004_13174.jpg"/>
          <p:cNvPicPr/>
          <p:nvPr/>
        </p:nvPicPr>
        <p:blipFill>
          <a:blip r:embed="rId1"/>
          <a:stretch/>
        </p:blipFill>
        <p:spPr>
          <a:xfrm>
            <a:off x="2000160" y="2143080"/>
            <a:ext cx="5548320" cy="4643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C:\Users\Svjetlana\AppData\Local\Microsoft\Windows\Temporary Internet Files\Content.IE5\Z0S938IK\MP900442298[1].jpg"/>
          <p:cNvPicPr/>
          <p:nvPr/>
        </p:nvPicPr>
        <p:blipFill>
          <a:blip r:embed="rId2"/>
          <a:stretch/>
        </p:blipFill>
        <p:spPr>
          <a:xfrm>
            <a:off x="-3714840" y="1928880"/>
            <a:ext cx="298620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r-H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3" name="Picture 2" descr="C:\Users\Svjetlana\Documents\školska knjiga\ppt predlosci i slike\smanjene\004_BXP46179.jpg"/>
          <p:cNvPicPr/>
          <p:nvPr/>
        </p:nvPicPr>
        <p:blipFill>
          <a:blip r:embed="rId1"/>
          <a:stretch/>
        </p:blipFill>
        <p:spPr>
          <a:xfrm>
            <a:off x="-857160" y="982800"/>
            <a:ext cx="10358280" cy="58752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571680" y="1214280"/>
            <a:ext cx="785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ffff"/>
                </a:solidFill>
                <a:latin typeface="Calibri"/>
                <a:ea typeface="Arial"/>
              </a:rPr>
              <a:t>Zemlja se nalazi u beskonačnom prostranstvu – svemir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66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4000" spc="-1" strike="noStrike">
                <a:solidFill>
                  <a:srgbClr val="ff6600"/>
                </a:solidFill>
                <a:latin typeface="Calibri"/>
              </a:rPr>
              <a:t>Galaktika</a:t>
            </a:r>
            <a:r>
              <a:rPr b="0" lang="hr-HR" sz="4000" spc="-1" strike="noStrike">
                <a:solidFill>
                  <a:srgbClr val="ff6600"/>
                </a:solidFill>
                <a:latin typeface="Calibri"/>
              </a:rPr>
              <a:t> – nakupina zvijezd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803240"/>
            <a:ext cx="8229600" cy="419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Naša galaktika zove se </a:t>
            </a: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Mliječna staza (Kumova slama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tretch/>
        </p:blipFill>
        <p:spPr>
          <a:xfrm>
            <a:off x="1571760" y="2928960"/>
            <a:ext cx="6296040" cy="36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285480" y="1071720"/>
            <a:ext cx="307188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U galaktici ima oko 100 milijardi zvijezda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4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3200" spc="-1" strike="noStrike">
                <a:solidFill>
                  <a:srgbClr val="000000"/>
                </a:solidFill>
                <a:latin typeface="Calibri"/>
              </a:rPr>
              <a:t>... a u svemiru ima oko 100 milijardi galaksija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Svjetlana\Documents\školska knjiga\ppt predlosci i slike\smanjene\004_000018227.jpg"/>
          <p:cNvPicPr/>
          <p:nvPr/>
        </p:nvPicPr>
        <p:blipFill>
          <a:blip r:embed="rId1"/>
          <a:stretch/>
        </p:blipFill>
        <p:spPr>
          <a:xfrm>
            <a:off x="3429000" y="1208160"/>
            <a:ext cx="5429160" cy="55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946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Sunčev sustav </a:t>
            </a:r>
            <a:r>
              <a:rPr b="0" lang="hr-HR" sz="3600" spc="-1" strike="noStrike">
                <a:solidFill>
                  <a:srgbClr val="ff6600"/>
                </a:solidFill>
                <a:latin typeface="Calibri"/>
              </a:rPr>
              <a:t>– Sunce i svemirska tijela koja oko njega kruže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785880" y="2176560"/>
            <a:ext cx="75722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404028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600" spc="-1" strike="noStrike">
                <a:solidFill>
                  <a:srgbClr val="ff6600"/>
                </a:solidFill>
                <a:latin typeface="Calibri"/>
              </a:rPr>
              <a:t>ZVIJEZ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Užarena svemirska tijela velike temperature i vlastite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4720" y="1143000"/>
            <a:ext cx="404172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r-HR" sz="3200" spc="-1" strike="noStrike">
                <a:solidFill>
                  <a:srgbClr val="ff6600"/>
                </a:solidFill>
                <a:latin typeface="Calibri"/>
              </a:rPr>
              <a:t>PLANE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r-HR" sz="2800" spc="-1" strike="noStrike">
                <a:solidFill>
                  <a:srgbClr val="000000"/>
                </a:solidFill>
                <a:latin typeface="Calibri"/>
              </a:rPr>
              <a:t>Svemirska tijela bez vlastite temperature i svjetl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928800" y="3929040"/>
            <a:ext cx="3000240" cy="25718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"/>
          <p:cNvPicPr/>
          <p:nvPr/>
        </p:nvPicPr>
        <p:blipFill>
          <a:blip r:embed="rId2"/>
          <a:stretch/>
        </p:blipFill>
        <p:spPr>
          <a:xfrm>
            <a:off x="5643720" y="3902040"/>
            <a:ext cx="2500200" cy="25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9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7T01:31:03Z</dcterms:created>
  <dc:creator>Ivica</dc:creator>
  <dc:description/>
  <dc:language>en-US</dc:language>
  <cp:lastModifiedBy>Ucenik</cp:lastModifiedBy>
  <dcterms:modified xsi:type="dcterms:W3CDTF">2017-11-04T09:15:56Z</dcterms:modified>
  <cp:revision>29</cp:revision>
  <dc:subject/>
  <dc:title>Slajd 1</dc:title>
</cp:coreProperties>
</file>