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8.png" ContentType="image/png"/>
  <Override PartName="/ppt/media/image16.jpeg" ContentType="image/jpeg"/>
  <Override PartName="/ppt/media/image21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A8D2-7829-4BEF-9E1A-9AD2DF45F65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unčev sustav: https://www.youtube.com/watch?v=UEjXZNItv2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https://www.youtube.com/watch?v=EOnYvmrMYs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150B-4C50-4EB4-B5E6-58490171BB2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unce ima 100 puta veći promjer nego Zemlja. Sunčeva masa je nekoliko stotina puta veća od svih planeta zajedno! Zato privlači sva tijela koja oko njega kruž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ADB0-7A50-4B94-96F6-565224B307B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http://www.znanstvenik.com/mjesec-zemljin-prirodni-satli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D456-E0E4-4F21-8595-C25A410EC11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Mjesečeve mijene: https://www.youtube.com/watch?v=7vUObZwLJ8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Mjesečeve mijene – simulacija: https://www.youtube.com/watch?v=OZIB_leg75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D424-B9D4-4F2D-9842-D63B7DAFF31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http://eskola.zvjezdarnica.hr/osnove-astronomije/suncev-sustav/veliki-planeti/mjesec/mjeseceve-i-sunceve-pomrcine/nastajanje-i-vrste-pomrcin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1266-70E3-4D4D-9756-1583F4EABA8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HVATITI POJAM SVEMIRA I SVEMISRKIH TIJELA I OPISATI POLOŽAJ ZEMLJE U SVEMIR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-obrazložiti važnost Sunca za Zemlju (daje svjetlost i toplin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-opisati Sunčev sustav i nabrojati nazive plan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-razlikovati planet (svemirsko tijelo bez vlastite svjetlosti) od zvijezde (svemirsko tijelo s vlastitom svjetlošć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-razlikovati što su prirodni sateliti ili mjesec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-nabrojati Mjesečeve mij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E522-965A-4EDC-8DEB-8CDF230C417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Više o svemiru na sljedećim linkovim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http://www.zvjezdarnica.com/mediji/crna-rupa/velika-enciklopedija-za-djecu-svemir/1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http://www.klinfo.hr/kutak-za-djecu/klub/hr/pregled/3/198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https://www.youtube.com/watch?v=3kdLmGauhw0 (dokumentarni film National geographic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Dokumentarni film Duboki svemir https://www.youtube.com/watch?v=iUVtnUJz3x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B59B-D35B-4CE1-9E03-D18A97D63AE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Dok su promatrali nebo, ljudima je ono izgledalo kao velika polukugla koja se nadvija nad Zemljom i na obzoru se s njome spaja. Mislili su da su zvijezde rupe u nebeskom svodu na kojemu su pričvršćeni Sunce i Mjese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904F-EF85-49FF-860D-D12A7F91232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http://www.znanstvenik.com/svemir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FA7F-4C83-45EC-83CD-9D4DE2593F3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O našoj galaksiji: http://www.adkoprivnica.hr/astro8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4490-E400-405E-9549-0F7C2946F11E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 Sunčevom sustavu je osam planeta, među kojima je i Zemlj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426B-321B-43F8-807D-5B394A56218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8748-3A6D-4E1B-8A83-685F5A97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9E99-E18D-407F-BC0A-4736EBFC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EDCA-19AB-4262-8E9A-4D60BC40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D613-E334-4C1E-B37E-ECFE16C9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5C1B-F3B8-412F-9470-3B7CDC71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FF42-C54A-44D3-8951-A8CF9EFD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6FFA-6C36-4D8C-8E7E-E357D429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AECF-C713-42E2-81CA-9526CD7E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6315-33E5-4B2F-A552-B19B85AC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BA83-ACDD-4149-9A8C-E941C116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7F35-9B9A-4DC1-A3C8-4B0B0608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EE62-37CB-43F0-9940-3AA008B8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0FA4-D3FC-4AC1-9280-FA6E2575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F7EE-EBA9-4E74-973C-85E5F427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9628-F7E0-4FB3-B386-979FA0D1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A69F-1CC4-4E6D-B822-E89B12C5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44AC-55EB-4E74-A7CE-8EE17370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392D2-27AD-4148-8691-797F842E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04F52-66A1-4090-9AB1-61403082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D66E3-0848-42F4-AE39-702F6429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71619-10E3-4B46-904A-9827D470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ACD47-63FE-4EAD-B407-8EC1CB89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AD13-2995-42C3-99A3-BD0CD960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CC711-1D37-4F4E-BF67-ED847C9A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557AC-4518-463E-8FF7-C6624E72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5775E-05B0-4686-B55C-32B4A96F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D7561-054F-42C8-8A4C-BD470D8A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EE435-7D31-46FD-8CD4-E2A8E0AE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6C565-6743-4D2A-9B3C-A526C530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9F237-0EB8-4A15-8E60-7850912B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E248-29C6-48A7-A6E9-DDFF465A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8734-E6A8-4B98-A7BD-5D1B9CBC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D476-5006-47AD-8DD6-4C8C3C41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0959-84D1-4AF5-8DA0-5AAFA7FC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FDDF-32E5-42FF-AF15-2987A0A6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7120-135D-466C-8247-5B36D4B4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B219-974E-4651-9D23-6D4632FBC94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7CBB-6B98-4E93-91E3-F6A9D32AE8F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7D39-A2D5-4FA6-9B8F-D84CD2BFC03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rcRect l="0" t="3236" r="0" b="0"/>
          <a:stretch/>
        </p:blipFill>
        <p:spPr>
          <a:xfrm>
            <a:off x="0" y="104760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2560" y="1285560"/>
            <a:ext cx="4543560" cy="17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Calibri"/>
              </a:rPr>
              <a:t>Planeti Sunčevog sustava različito su udaljeni od Sunca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856880"/>
            <a:ext cx="56865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laneti Sunčevog sustava različite su velič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tvarni odnos veličine Sunca i planeta Sunčevog sustav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6715080" y="-58680"/>
            <a:ext cx="2428920" cy="7059600"/>
          </a:xfrm>
          <a:prstGeom prst="rect">
            <a:avLst/>
          </a:prstGeom>
          <a:ln w="0">
            <a:noFill/>
          </a:ln>
        </p:spPr>
      </p:pic>
      <p:sp>
        <p:nvSpPr>
          <p:cNvPr id="163" name="Right Arrow 4"/>
          <p:cNvSpPr/>
          <p:nvPr/>
        </p:nvSpPr>
        <p:spPr>
          <a:xfrm>
            <a:off x="4429080" y="5857920"/>
            <a:ext cx="2000160" cy="64296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6600"/>
                </a:solidFill>
                <a:latin typeface="Calibri"/>
              </a:rPr>
              <a:t>Sunce – izvor živo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856880"/>
            <a:ext cx="2971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reće sve prirodne poj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tječe na tlo, biljni i životinjski svijet, na lj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6" descr="C:\Users\Svjetlana\AppData\Local\Microsoft\Windows\Temporary Internet Files\Content.IE5\MGU0FVWB\MP900448406[1].jpg"/>
          <p:cNvPicPr/>
          <p:nvPr/>
        </p:nvPicPr>
        <p:blipFill>
          <a:blip r:embed="rId1"/>
          <a:stretch/>
        </p:blipFill>
        <p:spPr>
          <a:xfrm>
            <a:off x="4714920" y="3857760"/>
            <a:ext cx="4286160" cy="2857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C:\Users\Svjetlana\Documents\školska knjiga\ppt predlosci i slike\smanjene\021_118026.jpg"/>
          <p:cNvPicPr/>
          <p:nvPr/>
        </p:nvPicPr>
        <p:blipFill>
          <a:blip r:embed="rId2"/>
          <a:stretch/>
        </p:blipFill>
        <p:spPr>
          <a:xfrm>
            <a:off x="5429160" y="1382760"/>
            <a:ext cx="3519720" cy="2335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C:\Users\Svjetlana\AppData\Local\Microsoft\Windows\Temporary Internet Files\Content.IE5\T32GWRZ0\MP900438749[1].jpg"/>
          <p:cNvPicPr/>
          <p:nvPr/>
        </p:nvPicPr>
        <p:blipFill>
          <a:blip r:embed="rId3"/>
          <a:stretch/>
        </p:blipFill>
        <p:spPr>
          <a:xfrm>
            <a:off x="5221440" y="1036800"/>
            <a:ext cx="3865320" cy="5778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C:\Users\Svjetlana\Documents\školska knjiga\ppt predlosci i slike\smanjene\066_BAG0066E.jpg"/>
          <p:cNvPicPr/>
          <p:nvPr/>
        </p:nvPicPr>
        <p:blipFill>
          <a:blip r:embed="rId4"/>
          <a:stretch/>
        </p:blipFill>
        <p:spPr>
          <a:xfrm>
            <a:off x="3643200" y="3191040"/>
            <a:ext cx="55008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0" y="1571760"/>
            <a:ext cx="29289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ff6600"/>
                </a:solidFill>
                <a:latin typeface="Calibri"/>
              </a:rPr>
              <a:t>mjeseci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 – manja svemirska tijela koja kruže oko planeta – </a:t>
            </a:r>
            <a:r>
              <a:rPr b="1" lang="hr-HR" sz="2700" spc="-1" strike="noStrike">
                <a:solidFill>
                  <a:srgbClr val="ff6600"/>
                </a:solidFill>
                <a:latin typeface="Calibri"/>
              </a:rPr>
              <a:t>prirodni satelit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ff6600"/>
                </a:solidFill>
                <a:latin typeface="Calibri"/>
              </a:rPr>
              <a:t>Mjesec</a:t>
            </a:r>
            <a:r>
              <a:rPr b="1" lang="hr-H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– Zemljin prirodni sateli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C:\Users\Svjetlana\Documents\školska knjiga\ppt predlosci i slike\smanjene\004_SPX0042E.jpg"/>
          <p:cNvPicPr/>
          <p:nvPr/>
        </p:nvPicPr>
        <p:blipFill>
          <a:blip r:embed="rId1"/>
          <a:stretch/>
        </p:blipFill>
        <p:spPr>
          <a:xfrm>
            <a:off x="3000240" y="1000080"/>
            <a:ext cx="67867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85480" y="999720"/>
            <a:ext cx="24001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mjeseci nemaju vlastitu svjetlo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Vidimo samo obasjanu stranu Mjeseca koja je okrenuta prema Zemlj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C:\Users\Svjetlana\Documents\školska knjiga\ppt predlosci i slike\smanjene\004_SPX0042E.jpg"/>
          <p:cNvPicPr/>
          <p:nvPr/>
        </p:nvPicPr>
        <p:blipFill>
          <a:blip r:embed="rId1"/>
          <a:stretch/>
        </p:blipFill>
        <p:spPr>
          <a:xfrm>
            <a:off x="3000240" y="1000080"/>
            <a:ext cx="67867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ff6600"/>
                </a:solidFill>
                <a:latin typeface="Calibri"/>
              </a:rPr>
              <a:t>Umjetni sateliti </a:t>
            </a:r>
            <a:r>
              <a:rPr b="0" lang="hr-HR" sz="3000" spc="-1" strike="noStrike">
                <a:solidFill>
                  <a:srgbClr val="ff6600"/>
                </a:solidFill>
                <a:latin typeface="Calibri"/>
              </a:rPr>
              <a:t>– naprave koje je čovjek poslao u svemi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C:\Users\Svjetlana\Documents\školska knjiga\ppt predlosci i slike\smanjene\011_BXP46174.jpg"/>
          <p:cNvPicPr/>
          <p:nvPr/>
        </p:nvPicPr>
        <p:blipFill>
          <a:blip r:embed="rId1"/>
          <a:stretch/>
        </p:blipFill>
        <p:spPr>
          <a:xfrm>
            <a:off x="4956120" y="3500280"/>
            <a:ext cx="4044960" cy="3286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:\Users\Svjetlana\Documents\školska knjiga\ppt predlosci i slike\smanjene\088_sh1821845.jpg"/>
          <p:cNvPicPr/>
          <p:nvPr/>
        </p:nvPicPr>
        <p:blipFill>
          <a:blip r:embed="rId2"/>
          <a:stretch/>
        </p:blipFill>
        <p:spPr>
          <a:xfrm>
            <a:off x="214200" y="1857240"/>
            <a:ext cx="4953240" cy="37148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5"/>
          <p:cNvSpPr/>
          <p:nvPr/>
        </p:nvSpPr>
        <p:spPr>
          <a:xfrm>
            <a:off x="5357880" y="1857240"/>
            <a:ext cx="3571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Arial"/>
              </a:rPr>
              <a:t>Služe za uspostavu telekomunikacijsk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Arial"/>
              </a:rPr>
              <a:t>veza, snimanje Zemlj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Arial"/>
              </a:rPr>
              <a:t>Istraživanje svemi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7120" y="7858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6600"/>
                </a:solidFill>
                <a:latin typeface="Calibri"/>
              </a:rPr>
              <a:t>Mjesečeve mije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928520"/>
            <a:ext cx="3186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Četiri osnovna položaj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lađ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va četv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št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dnja četv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mjena – 29 i pol d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3514680" y="1066680"/>
            <a:ext cx="5629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6600"/>
                </a:solidFill>
                <a:latin typeface="Calibri"/>
              </a:rPr>
              <a:t>Pomrčina Mjese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emlja se za uštapa nađe između Sunca i Mjeseca i zakloni ga svojom sjen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2" descr="C:\Users\Svjetlana\Downloads\004_000016080.jpg"/>
          <p:cNvPicPr/>
          <p:nvPr/>
        </p:nvPicPr>
        <p:blipFill>
          <a:blip r:embed="rId1"/>
          <a:stretch/>
        </p:blipFill>
        <p:spPr>
          <a:xfrm>
            <a:off x="-28440" y="4100400"/>
            <a:ext cx="920880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85640" y="1071720"/>
            <a:ext cx="82296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6600"/>
                </a:solidFill>
                <a:latin typeface="Calibri"/>
              </a:rPr>
              <a:t>Pomrčina Sun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2071800"/>
            <a:ext cx="53290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jesec za mlađaka dođe između Sunca i Zeml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C:\Users\Svjetlana\Downloads\004_000016081.jpg"/>
          <p:cNvPicPr/>
          <p:nvPr/>
        </p:nvPicPr>
        <p:blipFill>
          <a:blip r:embed="rId1"/>
          <a:stretch/>
        </p:blipFill>
        <p:spPr>
          <a:xfrm>
            <a:off x="-73080" y="4429080"/>
            <a:ext cx="9331560" cy="2214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Users\Svjetlana\Documents\školska knjiga\ppt predlosci i slike\originali\004_SPX0047E.JPG"/>
          <p:cNvPicPr/>
          <p:nvPr/>
        </p:nvPicPr>
        <p:blipFill>
          <a:blip r:embed="rId2"/>
          <a:stretch/>
        </p:blipFill>
        <p:spPr>
          <a:xfrm>
            <a:off x="5929200" y="1857240"/>
            <a:ext cx="304488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onavljan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a je razlika između zvijezda i plane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oj skupini pripada Zemlja, a kojoj Su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28800" y="3929040"/>
            <a:ext cx="3000240" cy="2571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5643720" y="3902040"/>
            <a:ext cx="25002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Zemlja u svemi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Zemlja u svemi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Ponavljanj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20001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Na kojem je mjestu po udaljenosti od Sunca naš planet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Koji je najveći planet Sunčevog sustava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928880" y="2928960"/>
            <a:ext cx="56656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Što su to prirodni, a što umjetni sateliti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C:\Users\Svjetlana\Documents\školska knjiga\ppt predlosci i slike\smanjene\004_SPX0042E.jpg"/>
          <p:cNvPicPr/>
          <p:nvPr/>
        </p:nvPicPr>
        <p:blipFill>
          <a:blip r:embed="rId1"/>
          <a:stretch/>
        </p:blipFill>
        <p:spPr>
          <a:xfrm>
            <a:off x="158760" y="2638440"/>
            <a:ext cx="3770280" cy="3862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C:\Users\Svjetlana\Documents\školska knjiga\ppt predlosci i slike\smanjene\088_sh1821845.jpg"/>
          <p:cNvPicPr/>
          <p:nvPr/>
        </p:nvPicPr>
        <p:blipFill>
          <a:blip r:embed="rId2"/>
          <a:stretch/>
        </p:blipFill>
        <p:spPr>
          <a:xfrm>
            <a:off x="4000680" y="271476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125360"/>
            <a:ext cx="332892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avedite Mjesečeve mijen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429000" y="1143000"/>
            <a:ext cx="55720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C:\Users\Svjetlana\Documents\školska knjiga\ppt predlosci i slike\smanjene\004_4220.jpg"/>
          <p:cNvPicPr/>
          <p:nvPr/>
        </p:nvPicPr>
        <p:blipFill>
          <a:blip r:embed="rId1"/>
          <a:stretch/>
        </p:blipFill>
        <p:spPr>
          <a:xfrm>
            <a:off x="-142920" y="1000080"/>
            <a:ext cx="9358200" cy="61768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222480" y="1214280"/>
            <a:ext cx="301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  <a:ea typeface="Arial"/>
              </a:rPr>
              <a:t>Što možete vidje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  <a:ea typeface="Arial"/>
              </a:rPr>
              <a:t>na vedrom noćnom nebu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6220080" y="607212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alibri"/>
                <a:ea typeface="Arial"/>
              </a:rPr>
              <a:t>Što su zvijez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218880" y="4572000"/>
            <a:ext cx="38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  <a:ea typeface="Arial"/>
              </a:rPr>
              <a:t>Koja je razlika između zemlje i Zemlj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  <a:ea typeface="Arial"/>
              </a:rPr>
              <a:t>Između mjeseca i Mjese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  <a:ea typeface="Arial"/>
              </a:rPr>
              <a:t>Između sunca i Sun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5864400" y="300024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  <a:ea typeface="Arial"/>
              </a:rPr>
              <a:t>Vidimo li noću Mjes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  <a:ea typeface="Arial"/>
              </a:rPr>
              <a:t>uvijek  na istome mjest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Srednjovjekovna predožba svemira – Zemlja je u središtu svemir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C:\Users\Svjetlana\Documents\školska knjiga\ppt predlosci i slike\smanjene\004_13174.jpg"/>
          <p:cNvPicPr/>
          <p:nvPr/>
        </p:nvPicPr>
        <p:blipFill>
          <a:blip r:embed="rId1"/>
          <a:stretch/>
        </p:blipFill>
        <p:spPr>
          <a:xfrm>
            <a:off x="2000160" y="2143080"/>
            <a:ext cx="5548320" cy="4643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C:\Users\Svjetlana\AppData\Local\Microsoft\Windows\Temporary Internet Files\Content.IE5\Z0S938IK\MP900442298[1].jpg"/>
          <p:cNvPicPr/>
          <p:nvPr/>
        </p:nvPicPr>
        <p:blipFill>
          <a:blip r:embed="rId2"/>
          <a:stretch/>
        </p:blipFill>
        <p:spPr>
          <a:xfrm>
            <a:off x="-3714840" y="1928880"/>
            <a:ext cx="29862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C:\Users\Svjetlana\Documents\školska knjiga\ppt predlosci i slike\smanjene\004_BXP46179.jpg"/>
          <p:cNvPicPr/>
          <p:nvPr/>
        </p:nvPicPr>
        <p:blipFill>
          <a:blip r:embed="rId1"/>
          <a:stretch/>
        </p:blipFill>
        <p:spPr>
          <a:xfrm>
            <a:off x="-857160" y="982800"/>
            <a:ext cx="10358280" cy="58752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571680" y="121428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Calibri"/>
                <a:ea typeface="Arial"/>
              </a:rPr>
              <a:t>Zemlja se nalazi u beskonačnom prostranstvu – svemir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6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6600"/>
                </a:solidFill>
                <a:latin typeface="Calibri"/>
              </a:rPr>
              <a:t>Galaktika</a:t>
            </a:r>
            <a:r>
              <a:rPr b="0" lang="hr-HR" sz="4000" spc="-1" strike="noStrike">
                <a:solidFill>
                  <a:srgbClr val="ff6600"/>
                </a:solidFill>
                <a:latin typeface="Calibri"/>
              </a:rPr>
              <a:t> – nakupina zvijez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803240"/>
            <a:ext cx="8229600" cy="41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ša galaktika zove se </a:t>
            </a:r>
            <a:r>
              <a:rPr b="1" lang="hr-HR" sz="3200" spc="-1" strike="noStrike">
                <a:solidFill>
                  <a:srgbClr val="ff6600"/>
                </a:solidFill>
                <a:latin typeface="Calibri"/>
              </a:rPr>
              <a:t>Mliječna staza (Kumova slam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571760" y="2928960"/>
            <a:ext cx="629604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85480" y="1071720"/>
            <a:ext cx="307188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galaktici ima oko 100 milijardi zvijezda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.. a u svemiru ima oko 100 milijardi galaksija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C:\Users\Svjetlana\Documents\školska knjiga\ppt predlosci i slike\smanjene\004_000018227.jpg"/>
          <p:cNvPicPr/>
          <p:nvPr/>
        </p:nvPicPr>
        <p:blipFill>
          <a:blip r:embed="rId1"/>
          <a:stretch/>
        </p:blipFill>
        <p:spPr>
          <a:xfrm>
            <a:off x="3429000" y="1208160"/>
            <a:ext cx="542916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9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6600"/>
                </a:solidFill>
                <a:latin typeface="Calibri"/>
              </a:rPr>
              <a:t>Sunčev sustav </a:t>
            </a:r>
            <a:r>
              <a:rPr b="0" lang="hr-HR" sz="3600" spc="-1" strike="noStrike">
                <a:solidFill>
                  <a:srgbClr val="ff6600"/>
                </a:solidFill>
                <a:latin typeface="Calibri"/>
              </a:rPr>
              <a:t>– Sunce i svemirska tijela koja oko njega kruž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785880" y="2176560"/>
            <a:ext cx="75722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6840" y="1143000"/>
            <a:ext cx="404028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6600"/>
                </a:solidFill>
                <a:latin typeface="Calibri"/>
              </a:rPr>
              <a:t>ZVIJEZ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Užarena svemirska tijela velike temperature i vlastite svjetl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4720" y="1143000"/>
            <a:ext cx="40417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6600"/>
                </a:solidFill>
                <a:latin typeface="Calibri"/>
              </a:rPr>
              <a:t>PLANE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vemirska tijela bez vlastite temperature i svjetl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928800" y="3929040"/>
            <a:ext cx="3000240" cy="2571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5643720" y="3902040"/>
            <a:ext cx="25002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01:31:03Z</dcterms:created>
  <dc:creator>Ivica</dc:creator>
  <dc:description/>
  <dc:language>en-US</dc:language>
  <cp:lastModifiedBy>Ucenik</cp:lastModifiedBy>
  <dcterms:modified xsi:type="dcterms:W3CDTF">2017-11-04T09:15:56Z</dcterms:modified>
  <cp:revision>29</cp:revision>
  <dc:subject/>
  <dc:title>Slajd 1</dc:title>
</cp:coreProperties>
</file>