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2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6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1A37-14B9-4F89-ABCA-70A78FD6D8DE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Pitam neke da mi probaju pametno završiti rečenice spasiti nas („od nas samih”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B122-23F0-46A4-AEBE-7987407AA2A3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ne moramo biti dobri jer nas Bog ionako misli spasit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11F4-34EB-4728-9706-DFA1828BCD28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Igra „osmosmjerka”: učenici dolaze na „ploču” upisati riječi koje imaju veze s ovom temom ali tako upisuju riječi da svako slovo upisuju u zasebni kvadratić, ali upisana riječ mora „iskoristiti” barem već jedno upisano slovo prethodno upisane riječi. Koliko slova otprije upisana „iskoriste” – toliko bodova dobije grupa igrač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ECC8-4229-4C6C-AE6C-DB41B1EC93ED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7865-688D-40C0-9159-4FD0B8E20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0886-C2CB-4394-9FD5-D7772FAB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2E28-8670-4E77-8A26-F7A59582C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56BC-B234-46D8-A473-BD92D42CA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CD98-BBD1-4E5D-A5D1-3A77666A3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58FF-1B40-470F-ACFD-F65D6E37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73E6C-FE06-4447-BE54-3B7A5F43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279C7-2DFF-43AE-940E-EBB9B32B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9D36-E601-4586-A0A5-87FFC4D9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95B1-F93D-4737-84CE-49709E44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914A-B90A-41D6-8549-ED206930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E82B-ECD0-4957-B4F7-2A54AA53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D30BE-AA79-44C3-A7B2-E1FDD63F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45D2-D90B-4F02-AFB1-E6C3803F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2C2E-B681-430D-B213-067E9BCD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AF2E-6867-4428-9572-4A170F9D9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879E3-0B9E-45D0-8436-53F77B588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647DF-4550-4D18-92E9-4364C6199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81D9D-3454-4159-A576-1927C584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6BA17-D63A-4964-A1B7-C8E4650C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E001E-8E8A-4624-8033-FFDF8232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FCD28-2C66-4BC3-AD72-37999B02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5244-02EB-4E14-B542-FD6D2887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1C376-9456-4804-B3FC-14793C65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2674F-FACF-471F-B96F-5A6752DD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C3A92-6F11-4732-9568-492C79D2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55749-555B-4F97-9710-DAA39126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C0AB6-DDE3-48CD-A277-8456FC05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BB696-614C-4632-A35A-49D11D1AD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B0817-3862-4C0A-8A26-7CCA1DC99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2AD18-28D6-4636-8628-6545FE5D3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61C95-01E9-4FCB-A78B-B45AAA1B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07CAF-004F-4203-8F15-20753F82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B0FF-41A2-422D-BC8E-04A8E3C9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087A1-4144-4831-9EA5-571F9E40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ED6B8-EC82-422B-9A1C-1A8CBBC7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6EC2F-4157-4363-BC61-0329AAB3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7B3CE-7650-4F67-B4BE-72B29974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B5C77-DD65-4F97-B358-66E08618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97C84-A78F-4005-856F-914FFF35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9AF95-595D-49BD-BA6D-E311EA3E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B2A45-B402-43EB-99F8-9A9188146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6C116-BFD4-45AB-B7C2-FDEEF584F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4CB2A-4604-46AD-8E6B-8E220BAE6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520A-065C-43AE-A1E8-05D36D8E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F89E1-32CD-4F1D-B482-E29D9D38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468C7-5D3C-41A1-AE3F-A272974F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B5F03-F521-4009-BC36-12487844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33A0E-E4F1-4C3F-A345-B6C0AE21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52CCC-25BC-4A40-906B-2637733E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2DB36-081A-4364-B5B5-B67BC830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CE551-59C7-40F5-A52A-3123030F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6CECC-26A1-422E-9948-99408FCE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5C465-0D70-4AE6-B808-531BFFF5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1A79E-7670-4F84-AA76-0A3F71F08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C0D5-AC88-4BC1-A8A6-D1691D0C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3BD79-0C59-4BCF-9A83-0CC7F66C3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E6863-5848-4718-8E17-F7B89214D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06853-781B-4BD4-A5A1-DE2198E4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1798D-1792-4B6E-BFCE-AC74A7B7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EA02C-C5B2-4DD1-90BA-47987D8F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8B2EC-E5AF-448F-A2EA-FB4F57B9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2C9FC-9625-45BC-8C2C-9476CC97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1120C-9D78-434D-BAD9-570E4101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3BCF2-4C22-4856-A7C2-6BA13073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EF0EC-6EC5-4315-9AFB-EE6F7E1F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C3F7-77AE-46C9-B7EB-2F9C6316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06EE1-9F74-4EF5-9FDD-EFBF0055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A9062-F2D4-4C9F-BECF-78680FBF3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5CD9E-DC8B-4C74-B97C-931225071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DF07-918F-4831-9050-E12A1FA5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A8CB-9D20-451F-BD41-77673C2C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A2D8-0E1D-4F21-B32D-FAFD5BD53CD6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42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5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49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5D37-48C3-4E58-AABA-62C0BECFB98F}" type="slidenum">
              <a:rPr b="1" lang="hr-HR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0266-B85C-448B-867D-D97919DDEC22}" type="slidenum">
              <a:rPr b="0" lang="hr-HR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34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37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41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938B-DC80-4F21-B81D-88CFE224CA06}" type="slidenum">
              <a:rPr b="1" lang="hr-HR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8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88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92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95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98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02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4E7F-D160-4901-A449-7619A250DB53}" type="slidenum">
              <a:rPr b="1" lang="hr-HR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46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49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53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CB0E-2766-4412-85FD-D81CFD2EE9F9}" type="slidenum">
              <a:rPr b="1" lang="hr-HR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e.hublin.net/krscanskanada" TargetMode="External"/><Relationship Id="rId2" Type="http://schemas.openxmlformats.org/officeDocument/2006/relationships/hyperlink" Target="https://e.hublin.net/krscanskanada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3" descr="hoffnung2"/>
          <p:cNvPicPr/>
          <p:nvPr/>
        </p:nvPicPr>
        <p:blipFill>
          <a:blip r:embed="rId1"/>
          <a:srcRect l="0" t="0" r="0" b="936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" descr="hope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offnung"/>
          <p:cNvPicPr/>
          <p:nvPr/>
        </p:nvPicPr>
        <p:blipFill>
          <a:blip r:embed="rId3"/>
          <a:stretch/>
        </p:blipFill>
        <p:spPr>
          <a:xfrm>
            <a:off x="4791240" y="189000"/>
            <a:ext cx="3333600" cy="2504880"/>
          </a:xfrm>
          <a:prstGeom prst="rect">
            <a:avLst/>
          </a:prstGeom>
          <a:ln w="0">
            <a:noFill/>
          </a:ln>
        </p:spPr>
      </p:pic>
      <p:pic>
        <p:nvPicPr>
          <p:cNvPr id="306" name="Pravokutnik 7" descr=""/>
          <p:cNvPicPr/>
          <p:nvPr/>
        </p:nvPicPr>
        <p:blipFill>
          <a:blip r:embed="rId4"/>
          <a:stretch/>
        </p:blipFill>
        <p:spPr>
          <a:xfrm>
            <a:off x="249120" y="1511280"/>
            <a:ext cx="8321760" cy="31528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8"/>
          <p:cNvSpPr/>
          <p:nvPr/>
        </p:nvSpPr>
        <p:spPr>
          <a:xfrm>
            <a:off x="250920" y="1932120"/>
            <a:ext cx="280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Arial"/>
              </a:rPr>
              <a:t>kršća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Slika 1" descr=""/>
          <p:cNvPicPr/>
          <p:nvPr/>
        </p:nvPicPr>
        <p:blipFill>
          <a:blip r:embed="rId5"/>
          <a:stretch/>
        </p:blipFill>
        <p:spPr>
          <a:xfrm rot="1971600">
            <a:off x="2482560" y="4055760"/>
            <a:ext cx="2100240" cy="2695680"/>
          </a:xfrm>
          <a:prstGeom prst="rect">
            <a:avLst/>
          </a:prstGeom>
          <a:ln w="0">
            <a:noFill/>
          </a:ln>
        </p:spPr>
      </p:pic>
      <p:sp>
        <p:nvSpPr>
          <p:cNvPr id="309" name="TekstniOkvir 2"/>
          <p:cNvSpPr/>
          <p:nvPr/>
        </p:nvSpPr>
        <p:spPr>
          <a:xfrm>
            <a:off x="6221520" y="4476600"/>
            <a:ext cx="2014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Arial"/>
              </a:rPr>
              <a:t>U22-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275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1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25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244440" y="1101600"/>
            <a:ext cx="8686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Mi kršćani se nada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a ćemo zemaljsko prijateljevanje s Bogom moći nastaviti i u vječnosti u nebu. 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o nam je obećao sam Bog I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Ufati se ili imati ufanje u Boga znač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mati pouzdanje (povjerenje) u Boga da će nam Bog pomoći i spasiti nas</a:t>
            </a:r>
            <a:r>
              <a:rPr b="0" lang="hr-HR" sz="2800" spc="-1" strike="noStrike">
                <a:solidFill>
                  <a:srgbClr val="606060"/>
                </a:solidFill>
                <a:latin typeface="Arial"/>
              </a:rPr>
              <a:t> („od nas samih”)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Nada nam pomaže u živo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ako što nam u životnim teškoćama daje snagu i volju za kršćanskim životom i optimizm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0" y="247680"/>
            <a:ext cx="9144000" cy="673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Arial"/>
              </a:rPr>
              <a:t>Kršćanska nada (ufanje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4"/>
          <p:cNvSpPr/>
          <p:nvPr/>
        </p:nvSpPr>
        <p:spPr>
          <a:xfrm>
            <a:off x="399960" y="1333440"/>
            <a:ext cx="8058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Dv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grijeha protiv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ršćanske 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nade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očaj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ad prestajemo vjerovati da bi nas Bog mogao spasi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2. preuzetnos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ada mislimo da ćemo se sami bez Boga spasi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ad mislimo da ne moramo biti dobri jer će nas Bog ionako spasi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0" y="247680"/>
            <a:ext cx="9144000" cy="673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a6a6a6"/>
                </a:solidFill>
                <a:latin typeface="Arial"/>
              </a:rPr>
              <a:t>Kršćanska nada (ufanje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ravokutnik 1"/>
          <p:cNvSpPr/>
          <p:nvPr/>
        </p:nvSpPr>
        <p:spPr>
          <a:xfrm>
            <a:off x="390600" y="873000"/>
            <a:ext cx="850428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222268"/>
                </a:solidFill>
                <a:latin typeface="Arial"/>
              </a:rPr>
              <a:t>Kršćanska nada (ufanj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Mi kršćani se nadamo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Ufati se ili imati ufanje u Boga znači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Nada nam pomaže u životu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Dva grijeha protiv kršćanske nade su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- oč..... </a:t>
            </a:r>
            <a:r>
              <a:rPr b="0" i="1" lang="hr-HR" sz="2400" spc="-1" strike="noStrike">
                <a:solidFill>
                  <a:srgbClr val="ff0000"/>
                </a:solidFill>
                <a:latin typeface="Arial"/>
              </a:rPr>
              <a:t>(objasni što je 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- preu...</a:t>
            </a:r>
            <a:r>
              <a:rPr b="0" i="1" lang="hr-H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r-HR" sz="2400" spc="-1" strike="noStrike">
                <a:solidFill>
                  <a:srgbClr val="ff0000"/>
                </a:solidFill>
                <a:latin typeface="Arial"/>
              </a:rPr>
              <a:t>(objasni </a:t>
            </a:r>
            <a:r>
              <a:rPr b="0" i="1" lang="hr-HR" sz="2400" spc="-1" strike="noStrike" u="sng">
                <a:solidFill>
                  <a:srgbClr val="ff0000"/>
                </a:solidFill>
                <a:uFillTx/>
                <a:latin typeface="Arial"/>
              </a:rPr>
              <a:t>2 oblika</a:t>
            </a:r>
            <a:r>
              <a:rPr b="0" i="1" lang="hr-HR" sz="2400" spc="-1" strike="noStrike">
                <a:solidFill>
                  <a:srgbClr val="ff0000"/>
                </a:solidFill>
                <a:latin typeface="Arial"/>
              </a:rPr>
              <a:t> ovog grijeh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kstniOkvir 5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ffff00"/>
                </a:solidFill>
                <a:latin typeface="Arial"/>
              </a:rPr>
              <a:t>U svoju vjeronaučnu bilježnicu prepiši, dopuni i završi rečen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Slika 1" descr=""/>
          <p:cNvPicPr/>
          <p:nvPr/>
        </p:nvPicPr>
        <p:blipFill>
          <a:blip r:embed="rId1"/>
          <a:stretch/>
        </p:blipFill>
        <p:spPr>
          <a:xfrm rot="1971600">
            <a:off x="7365960" y="509760"/>
            <a:ext cx="1647720" cy="2116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3" descr=""/>
          <p:cNvPicPr/>
          <p:nvPr/>
        </p:nvPicPr>
        <p:blipFill>
          <a:blip r:embed="rId1"/>
          <a:stretch/>
        </p:blipFill>
        <p:spPr>
          <a:xfrm>
            <a:off x="200160" y="2271600"/>
            <a:ext cx="8743680" cy="3006720"/>
          </a:xfrm>
          <a:prstGeom prst="rect">
            <a:avLst/>
          </a:prstGeom>
          <a:ln w="0">
            <a:noFill/>
          </a:ln>
        </p:spPr>
      </p:pic>
      <p:sp>
        <p:nvSpPr>
          <p:cNvPr id="318" name="Pravokutnik 3"/>
          <p:cNvSpPr/>
          <p:nvPr/>
        </p:nvSpPr>
        <p:spPr>
          <a:xfrm>
            <a:off x="0" y="0"/>
            <a:ext cx="9144000" cy="1000080"/>
          </a:xfrm>
          <a:prstGeom prst="rect">
            <a:avLst/>
          </a:prstGeom>
          <a:solidFill>
            <a:srgbClr val="2f6db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kstniOkvir 1"/>
          <p:cNvSpPr/>
          <p:nvPr/>
        </p:nvSpPr>
        <p:spPr>
          <a:xfrm>
            <a:off x="0" y="1000080"/>
            <a:ext cx="9144000" cy="947160"/>
          </a:xfrm>
          <a:prstGeom prst="rect">
            <a:avLst/>
          </a:prstGeom>
          <a:solidFill>
            <a:srgbClr val="2f6d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Posložite redoslijed redaka u smisleni tekst </a:t>
            </a:r>
            <a:br>
              <a:rPr sz="2800"/>
            </a:b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i onda tekst prepišite u svoje bilježn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kstniOkvir 2"/>
          <p:cNvSpPr/>
          <p:nvPr/>
        </p:nvSpPr>
        <p:spPr>
          <a:xfrm>
            <a:off x="200160" y="114480"/>
            <a:ext cx="82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c9cdf"/>
                </a:solidFill>
                <a:latin typeface="Arial"/>
                <a:ea typeface="Arial"/>
              </a:rPr>
              <a:t>radni listić: </a:t>
            </a:r>
            <a:r>
              <a:rPr b="1" lang="hr-HR" sz="4400" spc="-1" strike="noStrike">
                <a:solidFill>
                  <a:srgbClr val="9c9cdf"/>
                </a:solidFill>
                <a:latin typeface="Arial Black"/>
              </a:rPr>
              <a:t>puzz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kstniOkvir 5"/>
          <p:cNvSpPr/>
          <p:nvPr/>
        </p:nvSpPr>
        <p:spPr>
          <a:xfrm>
            <a:off x="0" y="7216920"/>
            <a:ext cx="9144000" cy="1130040"/>
          </a:xfrm>
          <a:prstGeom prst="rect">
            <a:avLst/>
          </a:prstGeom>
          <a:solidFill>
            <a:srgbClr val="2f6d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Nadajte se da ćete svi u grupi prvi to napraviti </a:t>
            </a:r>
            <a:br>
              <a:rPr sz="2800"/>
            </a:b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jer vam onda slijedi nagrada od </a:t>
            </a:r>
            <a:r>
              <a:rPr b="1" lang="hr-HR" sz="4000" spc="-1" strike="noStrike">
                <a:solidFill>
                  <a:srgbClr val="ffffff"/>
                </a:solidFill>
                <a:latin typeface="Arial"/>
                <a:ea typeface="Arial"/>
              </a:rPr>
              <a:t>++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kstniOkvir 2"/>
          <p:cNvSpPr/>
          <p:nvPr/>
        </p:nvSpPr>
        <p:spPr>
          <a:xfrm>
            <a:off x="299880" y="100080"/>
            <a:ext cx="8541000" cy="19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Posortiraj izjave prema tome da li su od kršćanske nade, očaja ili preuzetnos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 u="sng">
                <a:solidFill>
                  <a:srgbClr val="0563c1"/>
                </a:solidFill>
                <a:uFillTx/>
                <a:latin typeface="Raleway"/>
                <a:hlinkClick r:id="rId1"/>
              </a:rPr>
              <a:t>https://</a:t>
            </a:r>
            <a:r>
              <a:rPr b="0" lang="hr-HR" sz="4000" spc="-1" strike="noStrike" u="sng">
                <a:solidFill>
                  <a:srgbClr val="0563c1"/>
                </a:solidFill>
                <a:uFillTx/>
                <a:latin typeface="Raleway"/>
                <a:hlinkClick r:id="rId2"/>
              </a:rPr>
              <a:t>e.hublin.net/krscanskan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kstniOkvir 5"/>
          <p:cNvSpPr/>
          <p:nvPr/>
        </p:nvSpPr>
        <p:spPr>
          <a:xfrm>
            <a:off x="473040" y="7128000"/>
            <a:ext cx="808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ad riješiš, napravi SCRENSHOT (slikaj ekran) </a:t>
            </a: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 sliku pošalji na:   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e.hublin.net/zada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li preko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rivatne poruke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yammer-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Slika 6" descr="Slika na kojoj se prikazuje tekst, snimka zaslona, Font, dizajn&#10;&#10;Opis je automatski generiran"/>
          <p:cNvPicPr/>
          <p:nvPr/>
        </p:nvPicPr>
        <p:blipFill>
          <a:blip r:embed="rId3"/>
          <a:stretch/>
        </p:blipFill>
        <p:spPr>
          <a:xfrm>
            <a:off x="-3240" y="2112840"/>
            <a:ext cx="9147240" cy="4745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ravokutnik 1"/>
          <p:cNvSpPr/>
          <p:nvPr/>
        </p:nvSpPr>
        <p:spPr>
          <a:xfrm>
            <a:off x="200160" y="835200"/>
            <a:ext cx="8743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 u="sng">
                <a:solidFill>
                  <a:srgbClr val="000000"/>
                </a:solidFill>
                <a:uFillTx/>
                <a:latin typeface="Arial"/>
              </a:rPr>
              <a:t>UFAM SE</a:t>
            </a: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 U TE, BOŽE MOJ,</a:t>
            </a: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da ćeš mi po zaslugama Isusove muke i smrti / i po mojim dobrim djelima, učinjenima tvojom pomoću, / oprostiti grijehe i dati nebesku slavu. / A to se ufam, jer si to obećao ti, Bože moj, / koji si u svome obećanju stalan i vjeran. / </a:t>
            </a:r>
            <a:br>
              <a:rPr sz="3600"/>
            </a:b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O Bože, učvrsti moje ufanj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ravokutnik 2"/>
          <p:cNvSpPr/>
          <p:nvPr/>
        </p:nvSpPr>
        <p:spPr>
          <a:xfrm>
            <a:off x="0" y="6248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DZ+ naučiti ovu molitvu napa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kstniOkvir 3"/>
          <p:cNvSpPr/>
          <p:nvPr/>
        </p:nvSpPr>
        <p:spPr>
          <a:xfrm>
            <a:off x="5865840" y="291960"/>
            <a:ext cx="27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d79ca"/>
                </a:solidFill>
                <a:latin typeface="Arial"/>
              </a:rPr>
              <a:t>Čin ufanja (U22 i M4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42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3" descr="F:\5-8 raz\ALATI i metode rada\osmosmjerke\SLOVO na slovo MIDI.jpg"/>
          <p:cNvPicPr/>
          <p:nvPr/>
        </p:nvPicPr>
        <p:blipFill>
          <a:blip r:embed="rId1"/>
          <a:stretch/>
        </p:blipFill>
        <p:spPr>
          <a:xfrm>
            <a:off x="895320" y="200160"/>
            <a:ext cx="8248680" cy="6657840"/>
          </a:xfrm>
          <a:prstGeom prst="rect">
            <a:avLst/>
          </a:prstGeom>
          <a:ln w="0">
            <a:noFill/>
          </a:ln>
        </p:spPr>
      </p:pic>
      <p:sp>
        <p:nvSpPr>
          <p:cNvPr id="329" name="Pravokutnik 1"/>
          <p:cNvSpPr/>
          <p:nvPr/>
        </p:nvSpPr>
        <p:spPr>
          <a:xfrm>
            <a:off x="-7920" y="344520"/>
            <a:ext cx="770040" cy="196380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ravokutnik 4"/>
          <p:cNvSpPr/>
          <p:nvPr/>
        </p:nvSpPr>
        <p:spPr>
          <a:xfrm>
            <a:off x="0" y="2548080"/>
            <a:ext cx="770040" cy="1962000"/>
          </a:xfrm>
          <a:prstGeom prst="rect">
            <a:avLst/>
          </a:prstGeom>
          <a:solidFill>
            <a:srgbClr val="f0c6a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ravokutnik 5"/>
          <p:cNvSpPr/>
          <p:nvPr/>
        </p:nvSpPr>
        <p:spPr>
          <a:xfrm>
            <a:off x="0" y="4754520"/>
            <a:ext cx="770040" cy="1962360"/>
          </a:xfrm>
          <a:prstGeom prst="rect">
            <a:avLst/>
          </a:prstGeom>
          <a:solidFill>
            <a:srgbClr val="97d58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ravokutnik 2" descr=""/>
          <p:cNvPicPr/>
          <p:nvPr/>
        </p:nvPicPr>
        <p:blipFill>
          <a:blip r:embed="rId2"/>
          <a:stretch/>
        </p:blipFill>
        <p:spPr>
          <a:xfrm>
            <a:off x="0" y="249120"/>
            <a:ext cx="682560" cy="920880"/>
          </a:xfrm>
          <a:prstGeom prst="rect">
            <a:avLst/>
          </a:prstGeom>
          <a:ln w="0">
            <a:noFill/>
          </a:ln>
        </p:spPr>
      </p:pic>
      <p:pic>
        <p:nvPicPr>
          <p:cNvPr id="333" name="Pravokutnik 7" descr=""/>
          <p:cNvPicPr/>
          <p:nvPr/>
        </p:nvPicPr>
        <p:blipFill>
          <a:blip r:embed="rId3"/>
          <a:stretch/>
        </p:blipFill>
        <p:spPr>
          <a:xfrm>
            <a:off x="36360" y="2444760"/>
            <a:ext cx="682920" cy="920880"/>
          </a:xfrm>
          <a:prstGeom prst="rect">
            <a:avLst/>
          </a:prstGeom>
          <a:ln w="0">
            <a:noFill/>
          </a:ln>
        </p:spPr>
      </p:pic>
      <p:pic>
        <p:nvPicPr>
          <p:cNvPr id="334" name="Pravokutnik 8" descr=""/>
          <p:cNvPicPr/>
          <p:nvPr/>
        </p:nvPicPr>
        <p:blipFill>
          <a:blip r:embed="rId4"/>
          <a:stretch/>
        </p:blipFill>
        <p:spPr>
          <a:xfrm>
            <a:off x="36360" y="4645080"/>
            <a:ext cx="682920" cy="927000"/>
          </a:xfrm>
          <a:prstGeom prst="rect">
            <a:avLst/>
          </a:prstGeom>
          <a:ln w="0">
            <a:noFill/>
          </a:ln>
        </p:spPr>
      </p:pic>
      <p:sp>
        <p:nvSpPr>
          <p:cNvPr id="335" name="TekstniOkvir 3"/>
          <p:cNvSpPr/>
          <p:nvPr/>
        </p:nvSpPr>
        <p:spPr>
          <a:xfrm>
            <a:off x="3497400" y="2832120"/>
            <a:ext cx="25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    A    D   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kstniOkvir 6"/>
          <p:cNvSpPr/>
          <p:nvPr/>
        </p:nvSpPr>
        <p:spPr>
          <a:xfrm>
            <a:off x="-7920" y="0"/>
            <a:ext cx="915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OSMOSMJERKA:  ovdje mogu doći riječi koje imaju veze s (kršćanskom) nadom ili ufanj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kstniOkvir 9"/>
          <p:cNvSpPr/>
          <p:nvPr/>
        </p:nvSpPr>
        <p:spPr>
          <a:xfrm>
            <a:off x="9277200" y="249120"/>
            <a:ext cx="2052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gra „osmosmjerka”: učenici dolaze na „ploču” upisati riječi koje imaju veze s ovom temom ali tako upisuju riječi da svako slovo upisuju u zasebni kvadratić, ali upisana riječ mora „iskoristiti” barem već jedno upisano slovo prethodno upisane riječi. Koliko slova otprije upisana „iskoriste” – toliko bodova dobije grupa igrač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06:33:43Z</dcterms:created>
  <dc:creator>Hublin</dc:creator>
  <dc:description/>
  <dc:language>en-US</dc:language>
  <cp:lastModifiedBy>Krešimir Hublin</cp:lastModifiedBy>
  <dcterms:modified xsi:type="dcterms:W3CDTF">2024-02-24T07:44:47Z</dcterms:modified>
  <cp:revision>57</cp:revision>
  <dc:subject/>
  <dc:title>Slajd 1</dc:title>
</cp:coreProperties>
</file>