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1A7-1C5B-4499-9EA7-ED80A293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122D-6B46-4E3C-A043-837F6A8D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1DA-E298-4B63-9667-3EF9A108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015-D550-4DE4-B1BD-2E521904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57E6-947A-447E-BBDE-47D483D6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6206-3ADD-4F5A-9811-9B3A814A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FFE4-FF81-4062-A796-1FD4C61C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4593-3E8D-4C31-A7D9-7CE993FA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8058-97AD-43D2-B9E7-D75EE777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07FA-99E7-4B50-A192-BA5158FB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EB92-91A0-47BA-8C74-72965A4B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EB08-9607-4C05-A27C-FAE916CE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5A6D-5D2D-4B07-8E0A-0E12505C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DF19-FD00-4093-9855-0806B0D9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66DB-0E13-48B9-A3B8-328C3BE8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4D1F-C1AC-448C-882E-4C53D709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EE23-2AAA-4A92-B9F7-B03657F7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7A910-AB38-40E4-9CF6-6E938A07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1DD00-5118-4CA7-AE52-4C65CFFC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D0951-20AE-4B48-B109-9EF1C4FA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CC062-331A-46A0-B903-5076989D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9F6A0-BEC8-4132-9BAD-963D28D9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ECD1-706E-4FDB-BA8E-2490E630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42737-F368-4418-8D34-58DFB284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8D4ED-4B1E-4B58-A9D6-8451980D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5E4F2-C37D-4F31-BD9D-5B46E993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E7D3D-C2A0-4BCF-835D-9A63B1A2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92C63-35DB-4DED-9535-1F70BF00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7064F-ED8B-4681-9698-7BE77659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C48AF-1105-4ADD-A1B8-E08B7C0C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25091-7056-4617-B1C1-2291F04C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630AC-CC8B-43A5-A5AD-E2BEB5AF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7BA97-1AF1-47D8-949A-7C9A4B9E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5D0-CBA8-42F0-A86D-7D5F776E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CDACE-CDDE-4BFD-A5B7-3EC91512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7E636-85A9-4CF3-A35A-E9DFACE9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B55BE-FEAE-4BB6-AD98-15D428D2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7A5B2-F04A-40E4-9B16-427777CB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78292-4C2E-4565-9336-1B89FA4F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6A7D8-EEC0-4BEC-9CD2-5638A700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2DCF2-FB33-414D-95FE-E84A1E39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7FD03-33F8-4DEE-A453-9EC77EB9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B6451-F68F-489B-A8E0-C082C709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E5A12-1231-432B-BA1C-69D6306A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6AF-90C9-4839-B657-51C6315B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8D53D-CA82-406E-863E-36019AC9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82F8C-7FBF-43E6-A2DB-40EDE073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19548-0696-4637-BF79-E2715775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0E5A2-E5C2-4A2E-B008-5BD6279B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62A11-0BB2-4FB6-B06A-CF32F5ED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9D5DA-440D-4521-9D3D-5CF7AB0E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AF1DA-91B4-4495-9F43-783EA594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3497D-8B50-46CA-8C29-8836BA8C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F7E93-F793-4848-AD86-22EC7E31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79310-C66F-43F5-8641-2E76BF70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5FF-F2DB-42C3-889F-27E49692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6C0A3-45AE-4E49-B9EF-3A77A452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9D410-CF40-4C03-8A91-953DE3D6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137F8-811E-42D7-B8EB-B33DFB5F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6F5CF-643C-419C-B56A-20746E3F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C557D-2897-42BC-A742-96E5C71C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DCDE5-E7FD-4321-9457-F274B5C3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6F8D6-0638-4867-97CB-5929E50A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D3F1C-A79F-4293-9FB5-84077761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F339A-5B6B-4A92-AFCB-20E3A2CA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BA830-0317-479A-A2E8-14A19057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1CA-9460-4E93-A926-A5B07C3F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2BC70-A582-4260-968A-1FBE4823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3D763-75EA-4945-88F0-0E3D0CEF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AB7B5-0A8E-42AE-B9C2-43369FD6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51B7-B5B3-44B2-A6C7-62CFB7CF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C35-DDA9-4911-99F4-3F6294E1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95F0-178D-4EDE-9636-4B37D77C4872}" type="datetime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hvaljujemo na ustupljenom predlošku kolegi Hani Uzeirbegović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6A82-C71E-4AA6-B7C7-EE31F3E83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2A43-BDC0-49D7-86D9-75E5FFB3520B}" type="datetime">
              <a:rPr b="0" lang="sr-Latn-CS" sz="1200" spc="-1" strike="noStrike">
                <a:solidFill>
                  <a:srgbClr val="045c75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Zahvaljujemo na ustupljenom predlošku kolegi Hani Uzeirbegović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FE23-225E-461A-9616-48F306423A3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A094-077B-4C51-8891-31A332073030}" type="datetime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hvaljujemo na ustupljenom predlošku kolegi Hani Uzeirbegović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75DF-FD0B-4486-A36F-60902E466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7F49-10A5-40AA-8221-A3E64F7118AF}" type="datetime">
              <a:rPr b="0" lang="sr-Latn-CS" sz="1200" spc="-1" strike="noStrike">
                <a:solidFill>
                  <a:srgbClr val="d1eae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Zahvaljujemo na ustupljenom predlošku kolegi Hani Uzeirbegović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D88F-F0D4-430B-8688-CD43E8EA3FD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43A6-F6D1-441A-9965-DC84FB7B9667}" type="datetime">
              <a:rPr b="0" lang="sr-Latn-CS" sz="1200" spc="-1" strike="noStrike">
                <a:solidFill>
                  <a:srgbClr val="d1eae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Zahvaljujemo na ustupljenom predlošku kolegi Hani Uzeirbegović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B769-2897-48FB-AA75-59B31073316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E02D-6E1F-4D51-86FA-8539C66B1219}" type="datetime">
              <a:rPr b="0" lang="sr-Latn-CS" sz="1200" spc="-1" strike="noStrike">
                <a:solidFill>
                  <a:srgbClr val="045c75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Zahvaljujemo na ustupljenom predlošku kolegi Hani Uzeirbegović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8E22-8B8C-4804-84E4-07B52BFE9EC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ravokutnik 2"/>
          <p:cNvSpPr/>
          <p:nvPr/>
        </p:nvSpPr>
        <p:spPr>
          <a:xfrm>
            <a:off x="380880" y="-495360"/>
            <a:ext cx="829476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TOKTI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 eukariotski organizmi, nemaju razvijena tk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trofni protoktisti nalik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ljkama (al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terotrofni protoktisti nalik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životinjam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praživotin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Autotrofni protokti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aginizmi jednostanične ili jednostavne višestanične građ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žive 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odi ili važnoj okol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d višestaničnih alg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mam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osebno diferencirana tkiva i organe  (stelj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ravokutnik 2"/>
          <p:cNvSpPr/>
          <p:nvPr/>
        </p:nvSpPr>
        <p:spPr>
          <a:xfrm>
            <a:off x="250920" y="936720"/>
            <a:ext cx="856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VENE ALGE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Žive 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lim slanim i slatkim vodama,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 većinom s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šestanične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stidi su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odoplast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klorofil a i d, karoteni, kasnotifili, fikoeritr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daje crvenu boju), fikocijanin (neke vrste, daju modru boju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kt fotosinteze –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loridejski škrob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sličan glikogenu, koristi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a proizvodnju učvršćivača rublj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ravokutnik 3"/>
          <p:cNvSpPr/>
          <p:nvPr/>
        </p:nvSpPr>
        <p:spPr>
          <a:xfrm>
            <a:off x="250920" y="3933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lidiu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koristi se 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ustriji lijekov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 z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bivanje agar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želatinozna tva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totamnij</a:t>
            </a:r>
            <a:r>
              <a:rPr b="1" lang="hr-HR" sz="1800" spc="-1" strike="noStrike">
                <a:solidFill>
                  <a:srgbClr val="800080"/>
                </a:solidFill>
                <a:latin typeface="Arial"/>
                <a:ea typeface="Times New Roman"/>
              </a:rPr>
              <a:t>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hr-HR" sz="1800" spc="-1" strike="noStrike">
                <a:solidFill>
                  <a:srgbClr val="800080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ljku talože v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nena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stvaraju podmorske peć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ravokutnik 2"/>
          <p:cNvSpPr/>
          <p:nvPr/>
        </p:nvSpPr>
        <p:spPr>
          <a:xfrm>
            <a:off x="468360" y="692280"/>
            <a:ext cx="7991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TEROTROFNI PTOTOKTI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treotrofni protisti, praživotinje su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jednostanični organizm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ji žive u kopnenim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odama, moru, tlu ili su nametnic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AŽIVOTI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KROV TIJ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rjenonošci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dnostavna stanična membran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dvosloj fosfolipida), kod nekih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jušturic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d kremena ili vapn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čaši, truskovci, trepetljikaši-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likul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višeslojna op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RETANJE PRAŽIVOTI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rjenonošci-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žnim nožicam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pseudopodijim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čaši-pomoću jednog ili viš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čev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petljikaši-pomoću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repetiljak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uskovci u parazitskom ciklusu imaj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kretne i nepokretne razvojne ob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DRAŽLJI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čaši imaj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venu očnu pjeg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korjenonošc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maju posebnih organ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cijela površina stanice),a trepetljikaši pomoć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jedinih trepetilj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ravokutnik 2"/>
          <p:cNvSpPr/>
          <p:nvPr/>
        </p:nvSpPr>
        <p:spPr>
          <a:xfrm>
            <a:off x="324000" y="1413000"/>
            <a:ext cx="835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DRŽAVANJE OSMOTSKE RAVNOTE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uži organel-stežljivi mjehurić ili kontraktilna vak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važno z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atkovodne praživotinje,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rske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toplazma i morska voda su izotonič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zlikujemo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erobe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riste O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,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ulazi u organizam difuzijom 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aerob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nametničke praživoti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H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uskovci (nametničke praživotinje) i životinjski bičaši hrane s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fuzijo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rijenonošci (ameba) obuhvat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ijen lažnim nožicam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e uvuče u citoplazmu. Ameba može uzimati tekuću hrana, pinocitoza i krute čestice,fagocit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Slika 1" descr=""/>
          <p:cNvPicPr/>
          <p:nvPr/>
        </p:nvPicPr>
        <p:blipFill>
          <a:blip r:embed="rId1"/>
          <a:stretch/>
        </p:blipFill>
        <p:spPr>
          <a:xfrm>
            <a:off x="611280" y="422280"/>
            <a:ext cx="2566800" cy="6013440"/>
          </a:xfrm>
          <a:prstGeom prst="rect">
            <a:avLst/>
          </a:prstGeom>
          <a:ln w="0">
            <a:noFill/>
          </a:ln>
        </p:spPr>
      </p:pic>
      <p:sp>
        <p:nvSpPr>
          <p:cNvPr id="319" name="TekstniOkvir 5"/>
          <p:cNvSpPr/>
          <p:nvPr/>
        </p:nvSpPr>
        <p:spPr>
          <a:xfrm>
            <a:off x="3492360" y="1125360"/>
            <a:ext cx="518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petljikaši (papučica) prima hranu kroz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nična usta-citosto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udubljenje na pelikuli), na usta se nastavlj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nično ždrijelo (citofarinks)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 čijem se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raju stvaraj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bavni mjehurić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ranidbeni mjehurići se otkidaju od citofarinksa i putuju po protoplazmi te se spajaju s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zosomim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ji sadrže enzime za razgradnju hranidbenih tvar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pobravljeni ostaci izbacuju se na točno određenom mjestu na pelikuli -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itop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ravokutnik 2"/>
          <p:cNvSpPr/>
          <p:nvPr/>
        </p:nvSpPr>
        <p:spPr>
          <a:xfrm>
            <a:off x="468360" y="134136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ZMNOŽAVAN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čaši i korjenonošc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razmnožavaj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vojnim ili binarnim dijeljenje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uskovc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 razmnožavaj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spolno (truske) i mnogostrukom (multiplom) diob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petljikaši-konjugacija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dinke se spoje u područj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ničnih ust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na  mjestu spajanja se stope i malim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itoplazmatskim mostić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kronukleus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vake jedinke s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x dijeli,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staj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sam jezgric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ostaju dvije, druge se razgrade i nestaju zajedno sa mikronukleos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vije  jezgrice se nazivaju pokretna (muška ili migrirajuća) i nepokretna (ženska ili stacionarna). Pokretna jezgrica citoplazmatskim mostićem  odlazi u suprotnu  jedinku, spoji se s nepokretnom jezgricom u zigo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0" y="279360"/>
            <a:ext cx="9144000" cy="629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ravokutnik 2"/>
          <p:cNvSpPr/>
          <p:nvPr/>
        </p:nvSpPr>
        <p:spPr>
          <a:xfrm>
            <a:off x="539640" y="549360"/>
            <a:ext cx="68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PETLJIKAŠ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petljikši simbionti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u složenom želudcu preživač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mogućuju razgradnju celulo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pučic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slatke v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vončić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slatke vode, pričvršćen za podlog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ubice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črvšćen za podlogu                                       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ravokutnik 3"/>
          <p:cNvSpPr/>
          <p:nvPr/>
        </p:nvSpPr>
        <p:spPr>
          <a:xfrm>
            <a:off x="539640" y="3789360"/>
            <a:ext cx="631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ČAŠ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Euglen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slatke vode, autotrof i heterotr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Trypanosoma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zročnik bolesti spa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napada eritrocite čovjeka ,prenosi ga ce-ce mu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Trichomonas vaginalis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uzročnik upale spolnih org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ravokutnik 2"/>
          <p:cNvSpPr/>
          <p:nvPr/>
        </p:nvSpPr>
        <p:spPr>
          <a:xfrm>
            <a:off x="250920" y="260280"/>
            <a:ext cx="6607080" cy="50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UZAV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eba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latke v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rdoboljna ameb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dizenterija, parazitira u crijevu čovje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krednjaci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tijelo nalazi 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kučic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apnen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 broji otvori kroz koje prolazi gusta citoplaz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zrakastonozi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jednostaničn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blici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čvrstom čahuro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iz kojih pseudopodi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laze u obliku zr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razlikujemo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unašc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(slatkovodni obli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zrakaš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(planktonski morski organizm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ravokutnik 3"/>
          <p:cNvSpPr/>
          <p:nvPr/>
        </p:nvSpPr>
        <p:spPr>
          <a:xfrm>
            <a:off x="324000" y="4581360"/>
            <a:ext cx="667836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691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USKOV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91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nametničke praživoti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91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uzročnik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iroplazmoz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sa, prenosi ga krpel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1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91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smodiu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malari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7" descr=""/>
          <p:cNvPicPr/>
          <p:nvPr/>
        </p:nvPicPr>
        <p:blipFill>
          <a:blip r:embed="rId1"/>
          <a:stretch/>
        </p:blipFill>
        <p:spPr>
          <a:xfrm>
            <a:off x="5765760" y="1457280"/>
            <a:ext cx="2475000" cy="19796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9" descr="Zrakastonozi – Wikipedija"/>
          <p:cNvPicPr/>
          <p:nvPr/>
        </p:nvPicPr>
        <p:blipFill>
          <a:blip r:embed="rId2"/>
          <a:stretch/>
        </p:blipFill>
        <p:spPr>
          <a:xfrm>
            <a:off x="6372360" y="37828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ravokutnik 3"/>
          <p:cNvSpPr/>
          <p:nvPr/>
        </p:nvSpPr>
        <p:spPr>
          <a:xfrm>
            <a:off x="0" y="115920"/>
            <a:ext cx="896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ELENI BIČAŠ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EUGLENA VIRIDI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tijelo je obavijeno mekanom i prozirnom opnom ,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elikul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na vršnom dijelu tijela nalaze s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va bič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duži i krać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citoplazma sadrž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 kloroplast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a čijoj se površini nal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irenoid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bjelančevinasta zrnca za skladištenje pričuvnih tvar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u unutrašnjosti kloroplasta s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igmenti: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zeleni – klorofila a i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rančasto-crveni – karotenoide, žuti – ksantof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u  prednjem dijelu tijela  se nalazi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čna pjega ili stig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uži za primanje svjetlosnih podražaja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kontraktilnu vakuol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li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težljivi mjehuirić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izbacivanja suvišne vod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zeleni bičaši provode fotosint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jom nastaje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ami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polisaharid  sličan škrobu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euglena j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trofni organiz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heterotrofa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ačin ishrane-  upija hranjive tv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3336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ko površine tijela (pomankanje svjetlos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Slika 1" descr="Slikovni rezultat za euglena viridis"/>
          <p:cNvPicPr/>
          <p:nvPr/>
        </p:nvPicPr>
        <p:blipFill>
          <a:blip r:embed="rId1"/>
          <a:srcRect l="0" t="0" r="0" b="8790"/>
          <a:stretch/>
        </p:blipFill>
        <p:spPr>
          <a:xfrm>
            <a:off x="5435640" y="3821040"/>
            <a:ext cx="3610080" cy="2847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ravokutnik 2"/>
          <p:cNvSpPr/>
          <p:nvPr/>
        </p:nvSpPr>
        <p:spPr>
          <a:xfrm>
            <a:off x="179280" y="65880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GE KREMENJAŠ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nica je obavijen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jušturicam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stijenke) koje su građene od kremena (SiO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 Ljušturice se preklapaju poput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klopca i kutije,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 stanici razlikujemo gornju i donju polovinu (povezane posebnim pojasom, pleuro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o s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ljnog planktona u slatkim i slanim vodama,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 nakon ugibanja se od ljušturica koje se talože na dno voda stvara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jatomjeska ili kremena zeml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zlikujemo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nnata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je imaju oblik štapića, lađice  t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entrica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kruglih ljuštur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Slika 1" descr="Slikovni rezultat za Pennatae"/>
          <p:cNvPicPr/>
          <p:nvPr/>
        </p:nvPicPr>
        <p:blipFill>
          <a:blip r:embed="rId1"/>
          <a:stretch/>
        </p:blipFill>
        <p:spPr>
          <a:xfrm>
            <a:off x="539640" y="4653000"/>
            <a:ext cx="2962440" cy="1781280"/>
          </a:xfrm>
          <a:prstGeom prst="rect">
            <a:avLst/>
          </a:prstGeom>
          <a:ln w="0">
            <a:noFill/>
          </a:ln>
        </p:spPr>
      </p:pic>
      <p:pic>
        <p:nvPicPr>
          <p:cNvPr id="282" name="Slika 1" descr="C:\Users\Korisnik\AppData\Local\Microsoft\Windows\INetCache\Content.MSO\791FE00D.tmp"/>
          <p:cNvPicPr/>
          <p:nvPr/>
        </p:nvPicPr>
        <p:blipFill>
          <a:blip r:embed="rId2"/>
          <a:stretch/>
        </p:blipFill>
        <p:spPr>
          <a:xfrm>
            <a:off x="4765680" y="4255920"/>
            <a:ext cx="1914480" cy="2391120"/>
          </a:xfrm>
          <a:prstGeom prst="rect">
            <a:avLst/>
          </a:prstGeom>
          <a:ln w="0">
            <a:noFill/>
          </a:ln>
        </p:spPr>
      </p:pic>
      <p:sp>
        <p:nvSpPr>
          <p:cNvPr id="283" name="Pravokutnik 3"/>
          <p:cNvSpPr/>
          <p:nvPr/>
        </p:nvSpPr>
        <p:spPr>
          <a:xfrm>
            <a:off x="1091880" y="41338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nnat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kstniOkvir 6"/>
          <p:cNvSpPr/>
          <p:nvPr/>
        </p:nvSpPr>
        <p:spPr>
          <a:xfrm>
            <a:off x="6624720" y="446868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entric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ravokutnik 2"/>
          <p:cNvSpPr/>
          <p:nvPr/>
        </p:nvSpPr>
        <p:spPr>
          <a:xfrm>
            <a:off x="237960" y="260280"/>
            <a:ext cx="889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VIJETLEĆI BIČAŠ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vijetleći bičaši živ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jedinačno,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adrž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uciferin,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var koja u doticaju sa zrakom svjetluca (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oluminiscencija)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astavni su dio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ktona slatkovodnih stajaćica i toplih mor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eratiu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ja im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ljene nastavk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ji povećavaju tjelesnu površi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idiniu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kuglasti oblici čija stanična stijenka je građen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eluloznih ploč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rupicama. Na stijenci su dvije brazde, poprečna i uzduž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rsta svjetlećih bičaša koja doprinosi svjetlucanju mora je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octiluca miliar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Slika 1" descr="Slikovni rezultat za ceratium"/>
          <p:cNvPicPr/>
          <p:nvPr/>
        </p:nvPicPr>
        <p:blipFill>
          <a:blip r:embed="rId1"/>
          <a:stretch/>
        </p:blipFill>
        <p:spPr>
          <a:xfrm>
            <a:off x="635040" y="3660840"/>
            <a:ext cx="2354400" cy="2914560"/>
          </a:xfrm>
          <a:prstGeom prst="rect">
            <a:avLst/>
          </a:prstGeom>
          <a:ln w="0">
            <a:noFill/>
          </a:ln>
        </p:spPr>
      </p:pic>
      <p:pic>
        <p:nvPicPr>
          <p:cNvPr id="287" name="Slika 2" descr="Armoured Dinoflagellate (Peridinium sp.), SEM"/>
          <p:cNvPicPr/>
          <p:nvPr/>
        </p:nvPicPr>
        <p:blipFill>
          <a:blip r:embed="rId2"/>
          <a:stretch/>
        </p:blipFill>
        <p:spPr>
          <a:xfrm>
            <a:off x="4640400" y="3762360"/>
            <a:ext cx="3662280" cy="2879640"/>
          </a:xfrm>
          <a:prstGeom prst="rect">
            <a:avLst/>
          </a:prstGeom>
          <a:ln w="0">
            <a:noFill/>
          </a:ln>
        </p:spPr>
      </p:pic>
      <p:sp>
        <p:nvSpPr>
          <p:cNvPr id="288" name="Pravokutnik 3"/>
          <p:cNvSpPr/>
          <p:nvPr/>
        </p:nvSpPr>
        <p:spPr>
          <a:xfrm>
            <a:off x="2965320" y="330840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eratium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ravokutnik 4"/>
          <p:cNvSpPr/>
          <p:nvPr/>
        </p:nvSpPr>
        <p:spPr>
          <a:xfrm flipH="1">
            <a:off x="5292000" y="3429000"/>
            <a:ext cx="23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idi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kstniOkvir 3"/>
          <p:cNvSpPr/>
          <p:nvPr/>
        </p:nvSpPr>
        <p:spPr>
          <a:xfrm>
            <a:off x="108000" y="189000"/>
            <a:ext cx="871200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ELENE AL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d zelenih algi u  kloroplastima se nalaze zeleni pigmenti –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lorofil a i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arotenoidi i ksantof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loroplasti sadrž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jelančevinasta zrnca, pirenoid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oko njih se skuplj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škrob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Oblici zelenih algi mogu bit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dnostanični, kolonijalni i višestaničn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a živ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 slatkim vodama ili u m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išna alg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Pleurococcus sp.)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jednostanična zelena al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kuglast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lika s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likim kloroplasto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živi n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lažnim zidovima i stijen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lamidomonas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Chlamidomonas sp.)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jednostaničn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atkovodn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lg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va jednaka biča,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vrčasti kloropla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čna pjega, kontraktilna vak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adranski klobučić (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etabularia sp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)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jednostanična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orska alg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ja u klobuči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građuje vapnenac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 j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lijedo zelene bo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svaki klobučić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dna stanic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ja im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še jezg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Slika 3" descr="Povezana slika"/>
          <p:cNvPicPr/>
          <p:nvPr/>
        </p:nvPicPr>
        <p:blipFill>
          <a:blip r:embed="rId1"/>
          <a:stretch/>
        </p:blipFill>
        <p:spPr>
          <a:xfrm>
            <a:off x="6875640" y="2421000"/>
            <a:ext cx="1695240" cy="1200240"/>
          </a:xfrm>
          <a:prstGeom prst="rect">
            <a:avLst/>
          </a:prstGeom>
          <a:ln w="0">
            <a:noFill/>
          </a:ln>
        </p:spPr>
      </p:pic>
      <p:pic>
        <p:nvPicPr>
          <p:cNvPr id="292" name="Slika 1" descr="C:\Users\Korisnik\AppData\Local\Microsoft\Windows\INetCache\Content.MSO\797A983.tmp"/>
          <p:cNvPicPr/>
          <p:nvPr/>
        </p:nvPicPr>
        <p:blipFill>
          <a:blip r:embed="rId2"/>
          <a:stretch/>
        </p:blipFill>
        <p:spPr>
          <a:xfrm>
            <a:off x="4440240" y="3456000"/>
            <a:ext cx="1638360" cy="1638360"/>
          </a:xfrm>
          <a:prstGeom prst="rect">
            <a:avLst/>
          </a:prstGeom>
          <a:ln w="0">
            <a:noFill/>
          </a:ln>
        </p:spPr>
      </p:pic>
      <p:pic>
        <p:nvPicPr>
          <p:cNvPr id="293" name="Slika 1" descr="C:\Users\Korisnik\AppData\Local\Microsoft\Windows\INetCache\Content.MSO\FE0CA49C.tmp"/>
          <p:cNvPicPr/>
          <p:nvPr/>
        </p:nvPicPr>
        <p:blipFill>
          <a:blip r:embed="rId3"/>
          <a:stretch/>
        </p:blipFill>
        <p:spPr>
          <a:xfrm>
            <a:off x="6392880" y="5214960"/>
            <a:ext cx="191448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Slika 1" descr="C:\Users\Korisnik\AppData\Local\Microsoft\Windows\INetCache\Content.MSO\667F2C00.tmp"/>
          <p:cNvPicPr/>
          <p:nvPr/>
        </p:nvPicPr>
        <p:blipFill>
          <a:blip r:embed="rId1"/>
          <a:stretch/>
        </p:blipFill>
        <p:spPr>
          <a:xfrm>
            <a:off x="6823080" y="399960"/>
            <a:ext cx="1542960" cy="1619280"/>
          </a:xfrm>
          <a:prstGeom prst="rect">
            <a:avLst/>
          </a:prstGeom>
          <a:ln w="0">
            <a:noFill/>
          </a:ln>
        </p:spPr>
      </p:pic>
      <p:pic>
        <p:nvPicPr>
          <p:cNvPr id="295" name="Slika 1" descr="Slikovni rezultat za spirogira"/>
          <p:cNvPicPr/>
          <p:nvPr/>
        </p:nvPicPr>
        <p:blipFill>
          <a:blip r:embed="rId2"/>
          <a:stretch/>
        </p:blipFill>
        <p:spPr>
          <a:xfrm>
            <a:off x="4876920" y="1844640"/>
            <a:ext cx="1771560" cy="1324080"/>
          </a:xfrm>
          <a:prstGeom prst="rect">
            <a:avLst/>
          </a:prstGeom>
          <a:ln w="0">
            <a:noFill/>
          </a:ln>
        </p:spPr>
      </p:pic>
      <p:pic>
        <p:nvPicPr>
          <p:cNvPr id="296" name="Slika 2" descr="Chara braunii, porodica Characeae"/>
          <p:cNvPicPr/>
          <p:nvPr/>
        </p:nvPicPr>
        <p:blipFill>
          <a:blip r:embed="rId3"/>
          <a:stretch/>
        </p:blipFill>
        <p:spPr>
          <a:xfrm>
            <a:off x="5003640" y="3298680"/>
            <a:ext cx="1905120" cy="1581120"/>
          </a:xfrm>
          <a:prstGeom prst="rect">
            <a:avLst/>
          </a:prstGeom>
          <a:ln w="0">
            <a:noFill/>
          </a:ln>
        </p:spPr>
      </p:pic>
      <p:sp>
        <p:nvSpPr>
          <p:cNvPr id="297" name="TekstniOkvir 10"/>
          <p:cNvSpPr/>
          <p:nvPr/>
        </p:nvSpPr>
        <p:spPr>
          <a:xfrm>
            <a:off x="179280" y="264960"/>
            <a:ext cx="804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olvoks (Volvox aureus)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lonijalna slatkovodna al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sastoji se od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noštvo stanica s bičevim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je su povezan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zmodezmijima(cenobi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stanice imaju različite funkcije (fotosintez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zmnožavanje i kretan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kstniOkvir 12"/>
          <p:cNvSpPr/>
          <p:nvPr/>
        </p:nvSpPr>
        <p:spPr>
          <a:xfrm>
            <a:off x="179280" y="1790640"/>
            <a:ext cx="475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šestanični obl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irogira (Spirogyra cras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nitast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lga s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iraln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likom kloropl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ožine (Chara sp.)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živi 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atkim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odama, izgledom podsjećaju n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še biljke,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 stanične stijenke ugrađuj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alcijev karbonat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 su bjelkast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ladofora (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adophora sp.)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raširena 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anoj i slatkoj vod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režasti kloropla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Slika 2" descr="Morska salata - prikaz"/>
          <p:cNvPicPr/>
          <p:nvPr/>
        </p:nvPicPr>
        <p:blipFill>
          <a:blip r:embed="rId1"/>
          <a:stretch/>
        </p:blipFill>
        <p:spPr>
          <a:xfrm>
            <a:off x="1042920" y="1376280"/>
            <a:ext cx="6197760" cy="4105440"/>
          </a:xfrm>
          <a:prstGeom prst="rect">
            <a:avLst/>
          </a:prstGeom>
          <a:ln w="0">
            <a:noFill/>
          </a:ln>
        </p:spPr>
      </p:pic>
      <p:sp>
        <p:nvSpPr>
          <p:cNvPr id="300" name="Pravokutnik 3"/>
          <p:cNvSpPr/>
          <p:nvPr/>
        </p:nvSpPr>
        <p:spPr>
          <a:xfrm>
            <a:off x="324000" y="5013360"/>
            <a:ext cx="81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A GENERACIJA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a spolne i nespolne gener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orofit (2n),MEJOZA→spore (n)→ gametofit (n)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mete (n) →oplodnja →zigota (2n)→sporofi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kstniOkvir 4"/>
          <p:cNvSpPr/>
          <p:nvPr/>
        </p:nvSpPr>
        <p:spPr>
          <a:xfrm>
            <a:off x="324000" y="595440"/>
            <a:ext cx="65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rska salat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Ulva rigida)- uz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rsku obal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agađenim mjestim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U njoj se tijekom život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juj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polna (gametofit) i nespolna generacija (sporofi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Slika 1" descr="Slikovni rezultat za morska salata"/>
          <p:cNvPicPr/>
          <p:nvPr/>
        </p:nvPicPr>
        <p:blipFill>
          <a:blip r:embed="rId2"/>
          <a:stretch/>
        </p:blipFill>
        <p:spPr>
          <a:xfrm>
            <a:off x="6894360" y="343080"/>
            <a:ext cx="2133720" cy="1428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ravokutnik 2"/>
          <p:cNvSpPr/>
          <p:nvPr/>
        </p:nvSpPr>
        <p:spPr>
          <a:xfrm>
            <a:off x="179280" y="136440"/>
            <a:ext cx="85694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MEĐE AL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međe alge uvijek s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šestaničn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to s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krofitske alg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najveće živuće alge, pretežno 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ladnim mo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stidi s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eoplast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sadrže kolorofile a i c, karotene i ksantofil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međi ksantofil-  fuksoksanti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d kojeg potječe smeđa boja).</a:t>
            </a:r>
            <a:r>
              <a:rPr b="0" lang="hr-HR" sz="2800" spc="-1" strike="noStrike">
                <a:solidFill>
                  <a:srgbClr val="20212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d0d0d"/>
                </a:solidFill>
                <a:latin typeface="Arial"/>
              </a:rPr>
              <a:t>Skladišni polisaharid kod smeđih algi je</a:t>
            </a:r>
            <a:r>
              <a:rPr b="1" lang="hr-HR" sz="1800" spc="-1" strike="noStrike">
                <a:solidFill>
                  <a:srgbClr val="0d0d0d"/>
                </a:solidFill>
                <a:latin typeface="Arial"/>
              </a:rPr>
              <a:t> laminarin</a:t>
            </a:r>
            <a:r>
              <a:rPr b="0" lang="hr-HR" sz="1800" spc="-1" strike="noStrike">
                <a:solidFill>
                  <a:srgbClr val="0d0d0d"/>
                </a:solidFill>
                <a:latin typeface="Arial"/>
              </a:rPr>
              <a:t> i kapljice ulja, nikada škrob</a:t>
            </a:r>
            <a:r>
              <a:rPr b="0" lang="hr-HR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elulozna stijenka obložena j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ginskim kiselin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Slika 1" descr="Opis: Image result for jadranski bračić"/>
          <p:cNvPicPr/>
          <p:nvPr/>
        </p:nvPicPr>
        <p:blipFill>
          <a:blip r:embed="rId1"/>
          <a:stretch/>
        </p:blipFill>
        <p:spPr>
          <a:xfrm>
            <a:off x="611280" y="2760840"/>
            <a:ext cx="2636640" cy="1836720"/>
          </a:xfrm>
          <a:prstGeom prst="rect">
            <a:avLst/>
          </a:prstGeom>
          <a:ln w="0">
            <a:noFill/>
          </a:ln>
        </p:spPr>
      </p:pic>
      <p:pic>
        <p:nvPicPr>
          <p:cNvPr id="305" name="Slika 4" descr="Opis: Related image"/>
          <p:cNvPicPr/>
          <p:nvPr/>
        </p:nvPicPr>
        <p:blipFill>
          <a:blip r:embed="rId2"/>
          <a:stretch/>
        </p:blipFill>
        <p:spPr>
          <a:xfrm>
            <a:off x="5299200" y="2749680"/>
            <a:ext cx="2465280" cy="1655640"/>
          </a:xfrm>
          <a:prstGeom prst="rect">
            <a:avLst/>
          </a:prstGeom>
          <a:ln w="0">
            <a:noFill/>
          </a:ln>
        </p:spPr>
      </p:pic>
      <p:pic>
        <p:nvPicPr>
          <p:cNvPr id="306" name="Slika 5" descr="Opis: Image result for Cistozira"/>
          <p:cNvPicPr/>
          <p:nvPr/>
        </p:nvPicPr>
        <p:blipFill>
          <a:blip r:embed="rId3"/>
          <a:stretch/>
        </p:blipFill>
        <p:spPr>
          <a:xfrm>
            <a:off x="1519200" y="4749840"/>
            <a:ext cx="2944800" cy="1944720"/>
          </a:xfrm>
          <a:prstGeom prst="rect">
            <a:avLst/>
          </a:prstGeom>
          <a:ln w="0">
            <a:noFill/>
          </a:ln>
        </p:spPr>
      </p:pic>
      <p:pic>
        <p:nvPicPr>
          <p:cNvPr id="307" name="Slika 6" descr=""/>
          <p:cNvPicPr/>
          <p:nvPr/>
        </p:nvPicPr>
        <p:blipFill>
          <a:blip r:embed="rId4"/>
          <a:stretch/>
        </p:blipFill>
        <p:spPr>
          <a:xfrm>
            <a:off x="4932360" y="4597560"/>
            <a:ext cx="2832120" cy="2124000"/>
          </a:xfrm>
          <a:prstGeom prst="rect">
            <a:avLst/>
          </a:prstGeom>
          <a:ln w="0">
            <a:noFill/>
          </a:ln>
        </p:spPr>
      </p:pic>
      <p:sp>
        <p:nvSpPr>
          <p:cNvPr id="308" name="TekstniOkvir 7"/>
          <p:cNvSpPr/>
          <p:nvPr/>
        </p:nvSpPr>
        <p:spPr>
          <a:xfrm>
            <a:off x="3247920" y="3089160"/>
            <a:ext cx="458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adranski brači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niOkvir 9"/>
          <p:cNvSpPr/>
          <p:nvPr/>
        </p:nvSpPr>
        <p:spPr>
          <a:xfrm flipH="1">
            <a:off x="7764480" y="256536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d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kstniOkvir 17"/>
          <p:cNvSpPr/>
          <p:nvPr/>
        </p:nvSpPr>
        <p:spPr>
          <a:xfrm>
            <a:off x="179280" y="479916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istozir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kstniOkvir 19"/>
          <p:cNvSpPr/>
          <p:nvPr/>
        </p:nvSpPr>
        <p:spPr>
          <a:xfrm flipH="1">
            <a:off x="7828920" y="3924360"/>
            <a:ext cx="13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ična bobičar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ravokutnik 2"/>
          <p:cNvSpPr/>
          <p:nvPr/>
        </p:nvSpPr>
        <p:spPr>
          <a:xfrm>
            <a:off x="0" y="404640"/>
            <a:ext cx="424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adranski bračić (Fucus virsoides)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e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Jadranskog mora,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pljoštena steljk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ja se na vršcima razgranjuj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ršci su napuhnuti i sadrž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erocist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je služe z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državan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uspravnog položaja. Na steljci se nalaze udubljenja-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nceptakul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gdje su smješten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splodni organi: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teridiji, oogonij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aj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krivenu izmjenu generacija: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teljka (sporofit), u konceptakulima se odvija mejoza→gamete(n), spajanje gameta→zigota, mitoza→nova stelj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Slikovni rezultat za jadranski bračić izmjena generacija"/>
          <p:cNvPicPr/>
          <p:nvPr/>
        </p:nvPicPr>
        <p:blipFill>
          <a:blip r:embed="rId1"/>
          <a:srcRect l="6625" t="13548" r="46916" b="12303"/>
          <a:stretch/>
        </p:blipFill>
        <p:spPr>
          <a:xfrm>
            <a:off x="4230720" y="512640"/>
            <a:ext cx="487188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1:52:50Z</dcterms:created>
  <dc:creator>PUP</dc:creator>
  <dc:description/>
  <dc:language>en-US</dc:language>
  <cp:lastModifiedBy>Nataša Muža</cp:lastModifiedBy>
  <dcterms:modified xsi:type="dcterms:W3CDTF">2024-02-16T14:29:27Z</dcterms:modified>
  <cp:revision>475</cp:revision>
  <dc:subject/>
  <dc:title>Prvi sat razredne zajednice</dc:title>
</cp:coreProperties>
</file>