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26E-4BB7-43DC-9F05-A401A971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9C2-4DE8-4936-B424-422851D7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F2B-D5D7-47AB-B383-8EF7EFC5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B2E-77BE-47F6-B98C-ABA5AA8A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4E83-AA15-4CEB-A278-883FC5FC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F438-142E-4480-875B-6730B7C0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5CF4-1C44-4A0B-9E47-7433704C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0AD3-977B-4DA1-AC02-5CAA1563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D046-2A83-4D9A-97F6-1EEDD4FE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4CBE-5EC7-456B-BE5C-5D5C2F6B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7980-FB02-4FE5-84F2-D0A1C61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764-1A2B-40C9-BE7C-6D8F3FFD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3DF-2F57-4F54-A405-274B8BE8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DC4A-8CC8-4F18-A70E-67652D19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1E18-7B46-4CB8-8E6B-7474B4FB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2650-5FB6-430F-964C-9C6FDC73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4ACA-7B70-45C9-9257-6F356242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1131-B2D5-4C95-BA6B-0A0CA4E2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1738-6C7D-4E67-A7B5-9EF2684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9511-2E20-45FA-90FC-F02D292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2B90-581B-4C03-8157-17674069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5C6E-E0D0-4D5C-A1F2-81D7B24A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077-0B57-4802-A1F4-C71886EF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1643-6FC4-4223-9EAB-CE5BEE0D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51BD-3C68-43E8-BA49-FEA7580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0E9C-5F7F-4E01-AAE6-AB2DED7A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947E-2397-4B4D-9D93-C5D09B39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A006-DDA4-4FA3-AFA5-CFCA1638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309E-B818-444A-8A57-CFD70DDA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DF23-CBE4-4AE0-AD11-196BBB1E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E485-CA77-49C2-B2FF-C308CD19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6DA9-4914-4CBA-BF30-9428814D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9BBA-776F-4B8F-8DF0-0560C279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41D-E3AA-441C-8CC8-53A42BFB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278B-5885-4609-A015-2FA1BE0B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A2BA-4AA5-440A-ABA5-CD1E31DA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9FDF-EBFC-4186-89AB-67D9BFD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1B99-74F6-4C3E-B660-212D87D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83EC-EC16-4BBF-B68B-5C48652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D6857-A763-4140-A958-058E9E3A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47354-DDC9-446A-BDF8-C7315992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E1A7-986F-4F20-B4B0-8A62257C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F78F-B29E-462F-B0EF-42141810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CC1F0-657D-48A0-9835-0AF90FAC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264-C6D6-4E7B-A927-0C94B411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05010-3E70-452B-9B0F-5CF1220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D6210-416C-4C55-9363-BE4D2634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5B957-4520-4483-84AB-1A207E67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5A74-5DEA-44B9-ABE3-71433AB6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0AFE-8556-4A1C-877A-62C43D4B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7EBE-920D-4495-8216-D949D29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FD2FE-034B-4D3C-B59A-69FE6E6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40268-6E76-488E-B08C-AEEFC7B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1A24B-9E51-4642-833F-D0230970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6E6D7-4348-44EF-81DA-B290636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09C-19AB-4B60-BAD6-9D1C28BE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C3AF-12D6-4A78-8F9B-774F1056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97AC8-C3CC-45E1-BC1C-2A6E1B52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3394D-8F51-4B96-9BBA-E5780DBA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9DB47-D09B-46D5-A1D2-06F46DD5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02D17-C132-4E06-864D-7973226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AA094-C9CB-4632-930F-A39414BB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36AD5-F02F-4353-A423-E9773F8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C8471-B4AB-440C-8211-2A7B6B5C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A38B4-FA03-4423-A402-E040DC8E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A43D1-5E53-4BB7-AB76-E14A716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715-6AFF-425D-B3D5-E07A1F9E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2A06F-73D9-4F8B-9EDF-769E46F9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ABBFF-2EC0-4999-9EEA-D41CD09B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88445-EDA4-48CD-A0C0-FCD534B5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987-BA2A-424A-AB35-60D3E968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3D7-7867-43BC-BE22-9028A09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FC93-A9A4-4C82-86A4-1A46E4AFC461}" type="datetime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3AB-F2D5-48AB-9085-3CBBD1A83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D53A-CC5D-49D4-99B8-24D90DF7D8B2}" type="datetime">
              <a:rPr b="0" lang="sr-Latn-CS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8D5E-14FB-4026-83F4-C244456738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0CDA-7BFE-49F4-98FF-33E2BBBA30A4}" type="datetime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4073-0229-436D-897E-B516F298F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A565-B906-41FE-9B5E-4C040C4C876A}" type="datetime">
              <a:rPr b="0" lang="sr-Latn-CS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4166-FAC5-4529-9FAD-EF3007759E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4BDF-37AA-45D6-A913-7C94E9F879ED}" type="datetime">
              <a:rPr b="0" lang="sr-Latn-CS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526C-2A05-4B63-B2AA-7D860BAB273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BE5F-656B-4C31-942E-3E37D949D589}" type="datetime">
              <a:rPr b="0" lang="sr-Latn-CS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EC2-99D4-4325-B23B-54414206FF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ravokutnik 2"/>
          <p:cNvSpPr/>
          <p:nvPr/>
        </p:nvSpPr>
        <p:spPr>
          <a:xfrm>
            <a:off x="179280" y="674640"/>
            <a:ext cx="8856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ic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jevastog i izduženog obli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vezivanjem stanica nast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gačke ni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e se naziv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ve hife jedne gljive čin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celij (tijelo glj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jelo gljive(micelij) izgrađeno je od hifa u podlozi i iznad nje (plodiš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odiš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e dio gljive koji nos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rangije sa spora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o plodišta u kojem se nalaze sporangiji sa sporama naziva s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menij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ravokutnik 3"/>
          <p:cNvSpPr/>
          <p:nvPr/>
        </p:nvSpPr>
        <p:spPr>
          <a:xfrm>
            <a:off x="179280" y="3475080"/>
            <a:ext cx="667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načajke gljiva koje ih povezuju s biljk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dnosno sa životinja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biljka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•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aju staničnu stijen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•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a generacija (gametofita i sporofi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 životinja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trofan način ishrane (saprofitski ili parazitski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čina stijenka izgrađena od h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zervni polisaharid glik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ična struktura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rcRect l="0" t="0" r="51948" b="1961"/>
          <a:stretch/>
        </p:blipFill>
        <p:spPr>
          <a:xfrm>
            <a:off x="5796000" y="2949480"/>
            <a:ext cx="2519280" cy="3240360"/>
          </a:xfrm>
          <a:prstGeom prst="rect">
            <a:avLst/>
          </a:prstGeom>
          <a:ln w="0">
            <a:noFill/>
          </a:ln>
        </p:spPr>
      </p:pic>
      <p:sp>
        <p:nvSpPr>
          <p:cNvPr id="280" name="TekstniOkvir 5"/>
          <p:cNvSpPr/>
          <p:nvPr/>
        </p:nvSpPr>
        <p:spPr>
          <a:xfrm>
            <a:off x="108000" y="189000"/>
            <a:ext cx="66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TROFNI PROTOKT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ravokutnik 2"/>
          <p:cNvSpPr/>
          <p:nvPr/>
        </p:nvSpPr>
        <p:spPr>
          <a:xfrm>
            <a:off x="324000" y="566640"/>
            <a:ext cx="87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odno tkiv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zgrađuje žile, a žile su sastavljene od floema i ksi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a i mineraln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ari prolaze trahejama i traheidama ksilema od korijena prema vrhu biljke, 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imilati (produkti fotosinteze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astim cijevima floema od listova prema korijen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heid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u izdužene mrtve stanice koje se svojim zašiljenim dijelovima utiskuju jedna u drugu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he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u mrtve cijevi nastale od stanica, razgradnjom poprečnih membrana dok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aste cijev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izovi živih stanica s porama u poprečnim membran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5106960" y="3381480"/>
            <a:ext cx="374328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ravokutnik 2"/>
          <p:cNvSpPr/>
          <p:nvPr/>
        </p:nvSpPr>
        <p:spPr>
          <a:xfrm>
            <a:off x="179280" y="328464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obrazbe stablj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zemne stabljik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lukovica, gomolj, poda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tr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glog)-obrambena u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vit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vinova loza)-služi za penjanje ili  pričvršćivanje za podlo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getativno razmnožavanje stablji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znic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jelovi  stabljik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u se odvojili od matične biljke te imaju sposobnost razviti adventivno korijenje i izdan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valjenic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ane matične biljke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e priliježu uz tlo (uzgoj magnol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rijež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tasti nastavci stabljik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pružaju po zemlji ( jago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niOkvir 3"/>
          <p:cNvSpPr/>
          <p:nvPr/>
        </p:nvSpPr>
        <p:spPr>
          <a:xfrm>
            <a:off x="179280" y="42228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LJNI ORG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BLJ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jaste biljk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jednogodišnje (kukuruz)- žive godinu 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dvogodišnje (luk)-prvu godinu sakupljaju hranu u korijenu, lukovici ili listu, druge godine procvjetaj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višegodišnje (krumpir)-zahvaljujući preobraženoj stabljici ispod zemlje cvjetaju i donose plodove svake god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rvenaste biljk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stabla, grmovi i polugrm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ravokutnik 2"/>
          <p:cNvSpPr/>
          <p:nvPr/>
        </p:nvSpPr>
        <p:spPr>
          <a:xfrm>
            <a:off x="179280" y="4762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OVI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ojka, peteljka, lisna baza ili pod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ikujemo dvije temeljne skupine list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stavni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cjelovit-rub lisne plojke cjelov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razdijeljen-lisna plojka dublje od ½ ure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stavljeni lis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em je plojka razdijeljena na više dijelova (lis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ravokutnik 3"/>
          <p:cNvSpPr/>
          <p:nvPr/>
        </p:nvSpPr>
        <p:spPr>
          <a:xfrm>
            <a:off x="179280" y="2637000"/>
            <a:ext cx="667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obrazbe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nov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kaktus, preobraženi listovi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tic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grašak, preobražene lisne plo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povi, latic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preobraženi listovi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pricvjetni list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vataljk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preobraženi dijelovi lista, biljke mesožde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množavanje list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pazušcima listova nalaze s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pov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 kada padnu na zemlju mogu se razviti nove bil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ravokutnik 2"/>
          <p:cNvSpPr/>
          <p:nvPr/>
        </p:nvSpPr>
        <p:spPr>
          <a:xfrm>
            <a:off x="324000" y="76500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I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vi korije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dobro razvijen glavni korijen  iz kojeg se razvija bočno korijenje (dvosup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čupavi korijen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sup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ravokutnik 3"/>
          <p:cNvSpPr/>
          <p:nvPr/>
        </p:nvSpPr>
        <p:spPr>
          <a:xfrm>
            <a:off x="324000" y="2997360"/>
            <a:ext cx="653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obrazbe kori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past ili  vretenast korije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zadebljal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avni korije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sadrži mnogo osnovnog tkiva u kojem su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hranjene pričuvne tvari (cikla, mrk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ijenski gomolji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debljal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čno korije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sadrži mnogo osnovnog staničja za pričuvu h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ciklama, zlatice, kać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račno ili adventivno korije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luži za prihvaćanje stabljike za podlogu (bršlj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08000" y="724320"/>
            <a:ext cx="706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HOVIN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ije razvijen prav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odni sustav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evaskularne stablaš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rastu 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lažnim, sjenovitim mjes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šumsko tlo, kora drveća, zido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ema ih na m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em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ve vegetativne orga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ikujemo "korijenčiće"(rizoid), stabal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kauloid) i listiće (fi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Slika 1" descr="Opis: Građa mahovine &lt;br /&gt;"/>
          <p:cNvPicPr/>
          <p:nvPr/>
        </p:nvPicPr>
        <p:blipFill>
          <a:blip r:embed="rId1"/>
          <a:srcRect l="35931" t="20940" r="27650" b="0"/>
          <a:stretch/>
        </p:blipFill>
        <p:spPr>
          <a:xfrm>
            <a:off x="5502240" y="2205000"/>
            <a:ext cx="3338640" cy="43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ravokutnik 2"/>
          <p:cNvSpPr/>
          <p:nvPr/>
        </p:nvSpPr>
        <p:spPr>
          <a:xfrm>
            <a:off x="0" y="13644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množavaju s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om generaci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spolne (gametofit) i nespole (sporofit)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hovi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edstavlja spolnu generaciju il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metof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Sporofit je smeđe boje i živi na gametofitu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rof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m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ržak i tobolac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tobolcu nastaju sp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ra proklija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elenu prokličnicu ili protonemu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z pupova na prokličnici se razvijaju stabalca s listićima i rizoidima (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ški i ženski gameto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muškom gametofitu na vrhu stabalca razvijaju s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ški rasplodni organi (anteridiji)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na vrhu stabalca ženskog gametofita razvijaju s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enski rasplodni organi (arhegoniji)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anteridijima nast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ermatozoid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,a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hegoniju jed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jna stan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lodnjom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 kapljici v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staje zigota, a iz nje sporo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Slika 1" descr="Slika 4. Životni ciklus mahovina"/>
          <p:cNvPicPr/>
          <p:nvPr/>
        </p:nvPicPr>
        <p:blipFill>
          <a:blip r:embed="rId1"/>
          <a:stretch/>
        </p:blipFill>
        <p:spPr>
          <a:xfrm>
            <a:off x="3192480" y="2724120"/>
            <a:ext cx="5904000" cy="3932280"/>
          </a:xfrm>
          <a:prstGeom prst="rect">
            <a:avLst/>
          </a:prstGeom>
          <a:ln w="0">
            <a:noFill/>
          </a:ln>
        </p:spPr>
      </p:pic>
      <p:sp>
        <p:nvSpPr>
          <p:cNvPr id="317" name="Pravokutnik 3"/>
          <p:cNvSpPr/>
          <p:nvPr/>
        </p:nvSpPr>
        <p:spPr>
          <a:xfrm>
            <a:off x="47520" y="5157720"/>
            <a:ext cx="351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rste mahovin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ični vlas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denča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h treset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hovine sedrotvo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Slika 2" descr="Opis: Građa papratnjače&lt;br /&gt;"/>
          <p:cNvPicPr/>
          <p:nvPr/>
        </p:nvPicPr>
        <p:blipFill>
          <a:blip r:embed="rId1"/>
          <a:srcRect l="22583" t="22774" r="21753" b="0"/>
          <a:stretch/>
        </p:blipFill>
        <p:spPr>
          <a:xfrm>
            <a:off x="5114880" y="2303640"/>
            <a:ext cx="3889440" cy="4032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4397040" y="3020400"/>
            <a:ext cx="3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ravokutnik 4"/>
          <p:cNvSpPr/>
          <p:nvPr/>
        </p:nvSpPr>
        <p:spPr>
          <a:xfrm>
            <a:off x="108000" y="333360"/>
            <a:ext cx="8785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TNJ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pratnjača imaju razvijen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odni sustav (vaskularne)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maju prav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getativne organ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korijen, stabljiku i list) t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če razvijen sporofit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reduciran gametof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li i njima je z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lodnju nužna vod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avokutnik 5"/>
          <p:cNvSpPr/>
          <p:nvPr/>
        </p:nvSpPr>
        <p:spPr>
          <a:xfrm>
            <a:off x="108000" y="2579760"/>
            <a:ext cx="554364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avni predstavnici papratnjač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ilofi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prapapratnjače, npr. rinija)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votočin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npr. obična crvotočina, selagina)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lic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npr. poljska preslica),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prat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pr. bujad, jelenak, oslad, zlatinjak, gospin vlasak, vodene papra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ravokutnik 2"/>
          <p:cNvSpPr/>
          <p:nvPr/>
        </p:nvSpPr>
        <p:spPr>
          <a:xfrm>
            <a:off x="108000" y="3267000"/>
            <a:ext cx="41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kon oplodnj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risutnost vode) nasta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igot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koja se dijeli mitozom, a iz nje se razvij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lada paprat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a predstavlj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Slika 1" descr="Ilustracija prikazuje životni ciklus papratnjača s odvojenim spolnim i nespolnim generacijama"/>
          <p:cNvPicPr/>
          <p:nvPr/>
        </p:nvPicPr>
        <p:blipFill>
          <a:blip r:embed="rId1"/>
          <a:stretch/>
        </p:blipFill>
        <p:spPr>
          <a:xfrm>
            <a:off x="4211640" y="3429000"/>
            <a:ext cx="4908600" cy="2916360"/>
          </a:xfrm>
          <a:prstGeom prst="rect">
            <a:avLst/>
          </a:prstGeom>
          <a:ln w="0">
            <a:noFill/>
          </a:ln>
        </p:spPr>
      </p:pic>
      <p:sp>
        <p:nvSpPr>
          <p:cNvPr id="324" name="TekstniOkvir 4"/>
          <p:cNvSpPr/>
          <p:nvPr/>
        </p:nvSpPr>
        <p:spPr>
          <a:xfrm>
            <a:off x="108000" y="4046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a paprat 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spolna  generaci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j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ploidni sporof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ličju listov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prati nalaze se okruglaste nakupine sporangija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rusi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jednom sorusu ima mnogo sporangija, a u svakom sporangiju mnogo sp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kstniOkvir 6"/>
          <p:cNvSpPr/>
          <p:nvPr/>
        </p:nvSpPr>
        <p:spPr>
          <a:xfrm>
            <a:off x="108000" y="160488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r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a pada na  vlažno tlo kli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talij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srcolika oblika) koji predstavlj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metof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 na njemu se razvij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ški (anteridiji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enski (arhegoniji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asplodni organi. U anteridijima nast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ermatozoid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 u arhegoni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a jana st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 bi se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zbjegla samooplodnja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hegoniji i anteridiji na istom gametofitu 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e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zrijevaju istodob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ravokutnik 2"/>
          <p:cNvSpPr/>
          <p:nvPr/>
        </p:nvSpPr>
        <p:spPr>
          <a:xfrm>
            <a:off x="324000" y="333360"/>
            <a:ext cx="8351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JIVE ALGAŠICE (Zygomycota)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celij je građen od mnoštvo hifa bez poprečnih membrana sa brojnim jez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onospora (plamenjača)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ivi ka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z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 biljkama (vinova loza).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racelularnim prostori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stova i plodova vinove loze crpi organske tvari prek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ustorija (kratki nastav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va plijesa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na starom kruhu  uočavamo ka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vu paučinu s crnim posipo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što se pod mikroskopom očituje ka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uglasti sporangij sa mnoštvo sp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Slika 3" descr="Opis: Image result for Peronospora (plamenjača"/>
          <p:cNvPicPr/>
          <p:nvPr/>
        </p:nvPicPr>
        <p:blipFill>
          <a:blip r:embed="rId1"/>
          <a:stretch/>
        </p:blipFill>
        <p:spPr>
          <a:xfrm>
            <a:off x="950760" y="4005360"/>
            <a:ext cx="3544920" cy="2232000"/>
          </a:xfrm>
          <a:prstGeom prst="rect">
            <a:avLst/>
          </a:prstGeom>
          <a:ln w="0">
            <a:noFill/>
          </a:ln>
        </p:spPr>
      </p:pic>
      <p:pic>
        <p:nvPicPr>
          <p:cNvPr id="283" name="Slika 2" descr="Opis: Image result for mucor mucedo"/>
          <p:cNvPicPr/>
          <p:nvPr/>
        </p:nvPicPr>
        <p:blipFill>
          <a:blip r:embed="rId2"/>
          <a:stretch/>
        </p:blipFill>
        <p:spPr>
          <a:xfrm>
            <a:off x="4811760" y="3770280"/>
            <a:ext cx="386388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ravokutnik 2"/>
          <p:cNvSpPr/>
          <p:nvPr/>
        </p:nvSpPr>
        <p:spPr>
          <a:xfrm>
            <a:off x="395280" y="404640"/>
            <a:ext cx="849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JIVE MJEŠIN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spolno se razmnožavaju putem različitih vrsta sp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kospor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staju unutar sporangija, mješinice ili asku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jednom se askusu razvija 8 askosp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ke mješinarke stvaraju i druge vrste spor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zračne spore-konid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hr-HR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vašćeve gljivice (saharomiceti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ajjednostavnije građene mješinark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celij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d kuglastih i jajastih stan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vi ih je otkri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uis Pasteur  186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godine kao uzročnik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ren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nski kva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ivski (pekarski kvas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Slika 1" descr="Slikovni rezultat za kvašćeve  gljivice"/>
          <p:cNvPicPr/>
          <p:nvPr/>
        </p:nvPicPr>
        <p:blipFill>
          <a:blip r:embed="rId1"/>
          <a:stretch/>
        </p:blipFill>
        <p:spPr>
          <a:xfrm>
            <a:off x="4716360" y="3573360"/>
            <a:ext cx="291168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Slika 1" descr=""/>
          <p:cNvPicPr/>
          <p:nvPr/>
        </p:nvPicPr>
        <p:blipFill>
          <a:blip r:embed="rId1"/>
          <a:stretch/>
        </p:blipFill>
        <p:spPr>
          <a:xfrm>
            <a:off x="666720" y="1971720"/>
            <a:ext cx="1981080" cy="1562040"/>
          </a:xfrm>
          <a:prstGeom prst="rect">
            <a:avLst/>
          </a:prstGeom>
          <a:ln w="0">
            <a:noFill/>
          </a:ln>
        </p:spPr>
      </p:pic>
      <p:pic>
        <p:nvPicPr>
          <p:cNvPr id="287" name="Slika 2" descr=""/>
          <p:cNvPicPr/>
          <p:nvPr/>
        </p:nvPicPr>
        <p:blipFill>
          <a:blip r:embed="rId2"/>
          <a:stretch/>
        </p:blipFill>
        <p:spPr>
          <a:xfrm>
            <a:off x="3173400" y="1857240"/>
            <a:ext cx="2019240" cy="1791000"/>
          </a:xfrm>
          <a:prstGeom prst="rect">
            <a:avLst/>
          </a:prstGeom>
          <a:ln w="0">
            <a:noFill/>
          </a:ln>
        </p:spPr>
      </p:pic>
      <p:sp>
        <p:nvSpPr>
          <p:cNvPr id="288" name="Pravokutnik 2"/>
          <p:cNvSpPr/>
          <p:nvPr/>
        </p:nvSpPr>
        <p:spPr>
          <a:xfrm>
            <a:off x="179280" y="393840"/>
            <a:ext cx="60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istac (Penicillium notatum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iz njega je izoliran penicilin, prvi antibiotik ,1929.g.,A.Fl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razvija svoj  micelij 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stacima hrane i voć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Slika 1" descr="Slikovni rezultat za Pepelnica"/>
          <p:cNvPicPr/>
          <p:nvPr/>
        </p:nvPicPr>
        <p:blipFill>
          <a:blip r:embed="rId3"/>
          <a:stretch/>
        </p:blipFill>
        <p:spPr>
          <a:xfrm>
            <a:off x="666720" y="4705200"/>
            <a:ext cx="2890800" cy="1771920"/>
          </a:xfrm>
          <a:prstGeom prst="rect">
            <a:avLst/>
          </a:prstGeom>
          <a:ln w="0">
            <a:noFill/>
          </a:ln>
        </p:spPr>
      </p:pic>
      <p:sp>
        <p:nvSpPr>
          <p:cNvPr id="290" name="Pravokutnik 4"/>
          <p:cNvSpPr/>
          <p:nvPr/>
        </p:nvSpPr>
        <p:spPr>
          <a:xfrm>
            <a:off x="324000" y="3787920"/>
            <a:ext cx="48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P</a:t>
            </a:r>
            <a:r>
              <a:rPr b="1" lang="hr-HR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epelnica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aučinasta prevla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na listovima i plodovima vinove loze (sive prevla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ravokutnik 5"/>
          <p:cNvSpPr/>
          <p:nvPr/>
        </p:nvSpPr>
        <p:spPr>
          <a:xfrm>
            <a:off x="5867280" y="981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92d050"/>
                </a:solidFill>
                <a:latin typeface="Arial"/>
                <a:ea typeface="Times New Roman"/>
              </a:rPr>
              <a:t>Ražova gljivica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parazitira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odnici trava (raž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Slika 1" descr="C:\Users\Korisnik\AppData\Local\Microsoft\Windows\INetCache\Content.MSO\A9F4275C.tmp"/>
          <p:cNvPicPr/>
          <p:nvPr/>
        </p:nvPicPr>
        <p:blipFill>
          <a:blip r:embed="rId4"/>
          <a:stretch/>
        </p:blipFill>
        <p:spPr>
          <a:xfrm>
            <a:off x="6053040" y="1905120"/>
            <a:ext cx="2581200" cy="1714320"/>
          </a:xfrm>
          <a:prstGeom prst="rect">
            <a:avLst/>
          </a:prstGeom>
          <a:ln w="0">
            <a:noFill/>
          </a:ln>
        </p:spPr>
      </p:pic>
      <p:sp>
        <p:nvSpPr>
          <p:cNvPr id="293" name="Pravokutnik 7"/>
          <p:cNvSpPr/>
          <p:nvPr/>
        </p:nvSpPr>
        <p:spPr>
          <a:xfrm>
            <a:off x="4427640" y="460368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rančasta zdjeličarka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zemno  plodiš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 obliku zdjel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jestiv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mrčak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jestiva mješinar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a razvij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zemna plodiš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Gomoljač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odište ispod zemlje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crni i bijeli tart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ravokutnik 2"/>
          <p:cNvSpPr/>
          <p:nvPr/>
        </p:nvSpPr>
        <p:spPr>
          <a:xfrm>
            <a:off x="179280" y="11592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JIVE STAPČ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nad površine zemlj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celij im se razvij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plodišt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 kojem se razliku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učak i klob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noge mlade gljive imaju plodište obavijeno ovojem koji se zov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elu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 kako se gljiva razvija i klobuk se širi, velum se pokida i kod potpuno razvijene gljive vidi se samo njegov ostatak u oblik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ste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spolno se razmnožavaju putem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zidospora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e nastaju na površin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rangija, bazidij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ne unutar kao kod mješinarki) . Na svakoj se bazidiji razvi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 bazidos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ravokutnik 3"/>
          <p:cNvSpPr/>
          <p:nvPr/>
        </p:nvSpPr>
        <p:spPr>
          <a:xfrm>
            <a:off x="152280" y="3602160"/>
            <a:ext cx="862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pč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jestive (vrganj, pečurka, lisiča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otrovne gljive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elena pupavk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dara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h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zitske stapčarke (rđe i snij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ametnici na biljkama iz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o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va (žit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Slikovni rezultat za građa gljive"/>
          <p:cNvPicPr/>
          <p:nvPr/>
        </p:nvPicPr>
        <p:blipFill>
          <a:blip r:embed="rId1"/>
          <a:stretch/>
        </p:blipFill>
        <p:spPr>
          <a:xfrm>
            <a:off x="4092480" y="3433680"/>
            <a:ext cx="49244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ravokutnik 4"/>
          <p:cNvSpPr/>
          <p:nvPr/>
        </p:nvSpPr>
        <p:spPr>
          <a:xfrm>
            <a:off x="324000" y="333360"/>
            <a:ext cx="653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BIOZA GLJIVA I ALGI-LIŠA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simbiozu ulaze gljive (mješinarke, 2% stapčarke) i  alge- zelene, modrozel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jevita građa liš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Slika 1" descr="Slikovni rezultat za građa lišaja"/>
          <p:cNvPicPr/>
          <p:nvPr/>
        </p:nvPicPr>
        <p:blipFill>
          <a:blip r:embed="rId1"/>
          <a:stretch/>
        </p:blipFill>
        <p:spPr>
          <a:xfrm>
            <a:off x="3924360" y="1487520"/>
            <a:ext cx="4441680" cy="3348000"/>
          </a:xfrm>
          <a:prstGeom prst="rect">
            <a:avLst/>
          </a:prstGeom>
          <a:ln w="0">
            <a:noFill/>
          </a:ln>
        </p:spPr>
      </p:pic>
      <p:sp>
        <p:nvSpPr>
          <p:cNvPr id="299" name="Pravokutnik 5"/>
          <p:cNvSpPr/>
          <p:nvPr/>
        </p:nvSpPr>
        <p:spPr>
          <a:xfrm>
            <a:off x="108000" y="486900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rnja "kora„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usto zbijene h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rednji asimilacijski sloj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 i  h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rž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hlo raspoređene hife glj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nja kora 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bijene hife te iz donje kor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laze rizoidi (nitaste izras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ravokutnik 2"/>
          <p:cNvSpPr/>
          <p:nvPr/>
        </p:nvSpPr>
        <p:spPr>
          <a:xfrm>
            <a:off x="108000" y="89064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L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blašice (više biljke)-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vaskularne ,vaskul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vaskularne-mah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skularne-papratnjače,sjemenjače(golosjemenjače i kritosjemenjač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supnice, dvosup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ljke stablašice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trofni organizm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er procesom fotosinte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varaju organske hranjive tv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ječu od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elenih alg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e su živjel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je 400 milijuna godi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laskom na kopneni način života iz života u vodi prilagodbe su iš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smjer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pretka sporofit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,redukcij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ametofit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e razv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kiva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jemn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kutnik 2"/>
          <p:cNvSpPr/>
          <p:nvPr/>
        </p:nvSpPr>
        <p:spPr>
          <a:xfrm>
            <a:off x="324000" y="54936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LJNA TK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ljna tkiva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kupina stan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rodne građe i zajedničke funkci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ikujem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orna tkiva ili meristem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rajna tk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na tkiva ili merist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ikujem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ršna i  bočna tvorna tkiv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a omoguću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st biljk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ršni meristem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danaka, korijena omogućuju rast biljke 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ži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čni meristemi (kambij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mogućuju rast biljke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blj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Jednosupnice nemaju kamb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kstniOkvir 3"/>
          <p:cNvSpPr/>
          <p:nvPr/>
        </p:nvSpPr>
        <p:spPr>
          <a:xfrm>
            <a:off x="324000" y="39654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jna tkiv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ijelimo na osnovno tkivo ili parenhim, pokrovno tkivo, provodno tkivo, potporno tkivo i žljezdano tk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novni tkivo ili parenhi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adrži stanice s tankim staničnim stijenkama, velikim vakuolama i  međustaničnim prostor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remišni parenhi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skladište raznih tv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spiracijski ili spužvasti  parenhim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zmjenu plin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imilacijski parenhi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sta- fotosinteza, stanice s puno kloropla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erenhim-zračno tkivo,vodene bil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kstniOkvir 3"/>
          <p:cNvSpPr/>
          <p:nvPr/>
        </p:nvSpPr>
        <p:spPr>
          <a:xfrm>
            <a:off x="287280" y="83664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žno ili pokrovno tkiv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ma ulogu zaštite bilj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iderm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jednoslojna) - mlada stabljika i listo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izoderma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ladi korij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a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išegodišnja stabljika, kori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kstniOkvir 4"/>
          <p:cNvSpPr/>
          <p:nvPr/>
        </p:nvSpPr>
        <p:spPr>
          <a:xfrm>
            <a:off x="287280" y="2492280"/>
            <a:ext cx="78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porno ili mehaničko tkiv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aje biljc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čvrsto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lenhi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zgrađu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ive stanic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čije su celulozne stijenke zadeblj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lazi se u biljnim organima koji intenzivn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as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klerenhi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rtvo tkivo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drvenjelih i zadebljalih stijenk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sutno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jelovima biljk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vršili r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ljezdane stanice ili tkiv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izvode i izlučuju različite tv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 nektarij, žlijezde u cvjetovima, izlučuju nekt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52:50Z</dcterms:created>
  <dc:creator>PUP</dc:creator>
  <dc:description/>
  <dc:language>en-US</dc:language>
  <cp:lastModifiedBy>Nataša Muža</cp:lastModifiedBy>
  <dcterms:modified xsi:type="dcterms:W3CDTF">2024-02-19T19:20:14Z</dcterms:modified>
  <cp:revision>515</cp:revision>
  <dc:subject/>
  <dc:title>Prvi sat razredne zajednice</dc:title>
</cp:coreProperties>
</file>