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8AA0-AFCA-4A43-843A-A380FE283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919A-4248-400C-9AC0-9CD0A619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385121-8E08-4C1E-AF4A-83C06AB2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4F4906-BA71-4137-9D17-A21A063F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D817E0-DF61-426D-9958-72085008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A9B77F-66CC-4D17-8514-B20864B6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933D11-C104-4D17-A362-A771FC8D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34C4EB-04D5-419B-B6EA-B3F94AB2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AD35ED-3725-474E-8771-D804D813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55B08-02A3-4F27-BAFA-262ECA16A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EF64BB-70A4-4609-A428-2E756E6D7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F085E6-A305-417B-A376-FCAD8B089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89D8-1296-4CEA-864B-11E57170E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F309BC-CDDB-4CB6-88F7-23EE412A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C1A5B5-6F23-4579-A24E-B9FF1730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9B1B17-B826-44AE-A35A-EDDCD22E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98AF83-D2AD-45CD-B0B9-FE22BF47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0F6B19-0DEA-4AA7-A777-05042D49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29F622-E6F4-492B-BF58-FCE50385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890427-254A-4B50-B53A-FB751A3B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495727-6E90-4860-9D88-3EA89D41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AB0470-7C42-4A0A-8CE6-5BE66560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99FAB7-1056-457B-821C-D400C4022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0A86-9F55-41C9-9438-753596CB9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426C02-148C-48E7-A12C-E66BF1F6D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E8497-5AA1-4796-B3DE-BDCF897ED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F2F09-3E52-48F2-B0E1-63673D5E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C8697-3BAF-4E41-AEF7-60139A0F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902F3-E1BC-411F-9BD3-32396629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DEBCE-1309-4981-B3C5-12BED38F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E3D74-3880-44F6-BE0F-10B5A5BF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507BD-79AF-4EE4-B113-4E50E16A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18D0A-C5F8-4D10-9FB6-677042D6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B6AB9-EE12-46A7-B068-5F126808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7801D-FDA1-4CBB-BFDC-6F7636127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3FFA89-75DF-4E6E-95FC-9D9FC444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44AEB-8448-4DBA-AB1F-3924134B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89F712-B979-476A-82C6-E34AF6D8B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6F3634-8746-45C3-98E1-527B38873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557412-72DC-438B-8031-7CA7579D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3E8A88-9C8D-49ED-BF03-F63F4BF2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CDE7F6-261B-406B-B0CE-07922D1E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C3A375-AC86-412F-BAEC-EE9E1FE7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5E9481-3D18-4C6E-B958-AC05D865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561ABB-0193-477A-90E4-01CCEC43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F322-9BA3-4632-813C-FB198194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3FB50A-652F-4E26-B492-C18FF8A7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E984D3-009B-4882-B35D-38D25692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36201F-FDBD-49FA-B6DC-9CD4B825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97D9D9-4EDB-4099-B525-6ECF2CDD5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8CB6F0-CACF-444B-96E3-579A764FF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35CCF4-15C1-4DD3-8D44-887EC7A1E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8BBB09-CA41-4EE4-AAE6-4F5A8D42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F1F3A7-AB5B-4F31-94CF-B5AF846C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6EBEF4-BE86-4848-89CA-F47E2E02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9FF947-8968-4E5D-A80C-E7B865F7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FFBE-1302-4D3B-97BD-AFE6AEDD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D7B2CF-81FF-47FB-94E5-F9D5C5A4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2B93AC-CE8A-48F4-B50C-A0FC4D87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E3BEE8-75F0-4C13-9389-CD1A42BF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4C3A9E-E3EC-47C9-B905-0030DE1C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C28B67-CDEB-43D3-A971-B1EFE3E5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F6083A-171B-4AD1-8913-9DA502963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4FFB97-AAB8-49A4-B5A1-72BB6E751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51C464-8254-49B6-90F0-B07BC4E67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19E5D6-733C-4096-BDCE-8C3FE3F7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45253B-C60A-4C01-9015-952AF19D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BFFF-B751-4FC9-83A2-D398B75E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019C48-E440-4D23-8679-CC95966E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8B418A-8058-4B1E-9419-FE9A0010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7659FD-AA27-4708-9DF0-10FFB811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21CD7D-C041-49FE-9C4C-4BB9DE07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F7507B-8BF7-42B3-9313-D01140CF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CE1876-2FFC-49B8-935B-B31F779B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9D5F49-7DEB-44A5-B4E7-38899C9A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2F967F-4ABE-4A97-A080-533877DE1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A274A3-F156-405D-BD5B-4BC82A9F4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8BEC98-59EB-4BA1-B45A-D96ABE49D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8483-6821-4784-AB07-C3CF6F2C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67E0F7-83B7-4957-97F4-DC1CA993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5B4102-246A-40B1-8471-E71BA5CF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3AE70D-CC13-4E81-B794-1B005DC5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C99469-95C6-4150-B92B-9D71150C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1DEB31-7DD7-4BC1-AD28-0BE313DE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278503-B2B4-49AB-8855-FC8C20A6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C953D5-73E9-433E-8234-BFA0D8D4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20319F-8906-4F85-A2A3-B9A9E6AC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68ACF3-90A9-4A8E-A5CC-87CE572E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6A608F-1702-4D9D-B067-FF9C8EBF9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839E-1F99-4349-ABA2-BB8EA273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C23C36-EDF1-475F-AA4E-9754659A8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E5CB1B-23F7-4A13-B181-DD9A0A6C2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EA1299-4045-4246-8CCA-BA0538FA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3F1234-A18D-4B73-872E-C00F2563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F48C5F-E682-453E-969A-C9B49D24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92F42C-9AEA-412A-93B3-2AA2AE62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3AB684-D888-4072-B378-6EB84728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2863B4-E656-4167-A0C3-F0FC1B53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45818E-A564-4E91-AA9A-12D87DE1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67E6C9-77DA-428E-84E1-700C793F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BB3E8-3DDA-4242-BC2F-62AC9F07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47218D-6F8D-4C77-A2C4-10FF13A4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C4310F-0A6B-4889-9D75-C070F61DC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3E7B0C-8BBF-4BC7-A84C-FCC2FEF7E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56B8EE-282B-46F3-BF7A-6CB42D374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BD29E0-685F-42BF-92C3-EC74681A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FDC3BB-38BA-4748-B03C-C20D95F6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F5EE36-7B5C-4328-814E-577CD358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1C50BA-C251-4C91-8CAC-1C202E0F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E38EB0-4B77-48AF-9917-A558D6A6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DEAF27-3882-45BC-B3EE-15D7FE77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8EA4-AA1E-413C-A8F3-239AAEBC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C3D0-6128-4D99-BE63-FAE13EF5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1833EE-A571-4704-A51B-D162EDC0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3CC7FA-FC56-4ABB-AC99-20C027E3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4D68CA-58AF-4B37-B3E5-5BF820E6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0E2D85-C5B5-43DD-BCCF-B80CA6E38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52BC51-FFDE-4B25-9D77-D865FB48E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53B8AF-CA86-43A3-9CC9-E2829E175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E61326-3A39-4BD9-A287-18E45A22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2AAA96-705F-47F7-BB02-AF8043F8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FE859B-2F25-49AE-8494-ADBCFE41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80166B-3CAE-4068-A3F0-B093F55B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1716-6830-46D6-89BE-5610A044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699052-7474-49E7-B71D-B06E5BDC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958AE2-D412-4177-8BC0-FD849361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D369F8-6EF6-4514-9188-7AC07776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BFD6B5-0F1B-4374-AC82-05868C37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FBA986-8268-40CC-B52C-5C25D407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D3E145-D36C-4FEF-810C-6E390A5DD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1A19E9-E93A-40EA-B9FA-4650ACCAD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D3D8-B48C-45DA-895A-602D2C1F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1018-E885-4C59-821B-3FFDA27DC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2F7F0-8F08-4AC0-BEBA-9966B2912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BA0B5-F949-465A-A1CF-28CF00F6C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D790E-F98C-45E9-9CF3-BCD28B3D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C4427-33F4-4FB9-8190-6EAEDBC0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E9A1C-3A1C-4013-997E-54934B78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5D9D4-320C-42C2-9765-CF6F36F2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37EC-1218-487F-A563-39B2FE33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2428C-094E-4764-BB66-C8D32100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8FC5E-74C0-4FD0-9825-0DC3BE0E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BB2E2-0242-4527-A53D-830A3F14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E28E8-2EAF-4350-A85F-140DCAC9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9D049-D60C-442F-A09E-B305C314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842F2-260A-47E7-8C8A-6E508B695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38234-ECC5-4CC9-850F-031079213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F56DC-4E1F-409D-8A02-215696911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A792F-F1C7-403D-813E-F3409E9E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4A9B4-1D54-4827-BC63-174E6C3D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207E-5270-4908-8801-1E9919E9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9235D-E5A7-4D55-98C8-4895FB45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FFF52-6595-42A1-B3FA-40779F5D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39B98-BA70-447E-BF3B-89434A08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5D8A7-0C46-422A-8152-0F323E0E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79E3D-8F65-4362-A539-BF331694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70543-F4E1-4159-8D50-4831A169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AE7F8-30D8-4B28-9A6E-10C17566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E43A9-029D-4D7F-B5E8-A7805024F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E2D8A-84DF-4BDC-ACE0-F02163F50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8A2C3-CEA3-49D1-86B0-C1A5A5671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3A2F-0CEB-45E5-AA55-4E81906B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6CF95-119F-4D8A-9247-5888CCE9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3F3E6-5060-4E10-B4C1-E4FAF44E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DC3D1-7995-4B94-A0D8-321CE566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A0445-B93C-4A94-AB2C-0C2882CD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6E6CA-9D0A-4067-B6B0-EDA9DDDD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18909-015D-4ED4-A124-6102302C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D6AB6-6B76-40AB-894D-CF7C8B8C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4D467-58BD-44F7-B07A-1B92C516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6305D-2D38-4929-A27A-A667B131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92C14-6A1C-4712-BEB5-D612FC9BC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CA27-B651-49A3-9955-A18DE2DB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39D55-516F-456B-B85A-A8D03DAA7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8F21F-4EE1-4235-AFDC-F2674C4A3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3D0C8-10B1-42E8-BD6D-338583C7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4C433-7C44-4AC6-A1DE-FEF101BF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E4ADC-4A51-469C-8CBE-DDFED300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1FB9A-8A2E-479C-BA6B-98147431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03CA3-200B-4003-BA06-5B7797F0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913C8-784D-44A6-A7FD-EF547B5B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760DC-D2D5-403C-84DB-955542E8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D8D37-E1E9-4F25-B46A-24C2C962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59A5-BA7D-40F6-9247-EB3746E5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D3214-C8ED-4D2F-9640-434EAFF7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40315-AEA8-44F7-B2CB-DF345F40E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4E066-DE96-4079-A8C2-88D2EDD76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03134-3BB7-4A05-ACCD-5436A30F4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BA7DC-9502-4353-B8F1-99F91CDE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81E21-3C3F-4CDB-BC5C-42900026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151EC-978D-4593-BF50-05C1688A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BAC6E-D46E-487D-9968-5FFD9B6D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500F0-EE28-4E25-84E6-22C6A4F1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03237-D021-4E23-9F7C-A9DE4D08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2133-112A-4219-9945-D1F9BB3B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1F83C-9673-4609-A2A9-C248B398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49800-5C95-4F74-BC49-A835A406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261B1-5861-4F10-8BB4-0D85FF47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0AAF1-0581-44A7-85C8-A872FFFE6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6FCAF-CA8B-49D0-A19A-0188EF7AB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9194C-BB9A-4AF8-A04C-E4AE75FF5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524A0-63FC-4952-881A-07D463E4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B1385-52F5-4B97-BA91-78EF1EFF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A08E0-4B25-48D0-8F8A-80938DB7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11AB7-5FFA-4EF6-A5A2-C22D16B2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91F1-F2E9-494F-B59B-CC34889C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3317D-2F87-4971-A69A-B53A7DD9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62EF4-84FC-487D-9D84-525FF601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3D75E-F1E5-4216-A921-5303FDBB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A187A-5242-487C-BD07-2DA26E4C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35D47-7365-4585-BD78-D1500BC0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F613C-27E5-4BAD-B633-915798AD3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0E21A-E4A5-438A-AB45-C015ED247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66C05E-9DE1-47B4-86F8-430F36662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D50C21-0E41-4558-9CB8-B28B42C5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63F8A0-607E-4678-B8D1-EB7DAC2B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5A7FF0-2584-4507-9C9E-2AD90D732B0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F554D2-62D0-42D7-B2DD-F4486CE532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047E46-D7A7-4953-9353-9D85779073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7D90FE-89D9-40C2-95B5-B5E0BEB673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8"/>
          <p:cNvSpPr/>
          <p:nvPr/>
        </p:nvSpPr>
        <p:spPr>
          <a:xfrm>
            <a:off x="1001880" y="75420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TextBox 9"/>
          <p:cNvSpPr/>
          <p:nvPr/>
        </p:nvSpPr>
        <p:spPr>
          <a:xfrm>
            <a:off x="10557000" y="299412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9D8700-B082-40CA-A8CA-3E08214CA7C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87B912-F15A-44D7-9DD4-7CD5230D78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43A6B5-626F-42D9-88C9-4820544629B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09F5C3-2619-4C0E-8013-5D1C8D35C2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53D940-DA5D-4A8D-8840-894C4AE63B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E15B19-0F87-4703-8351-04838BC800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Droplets-HD-Title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D7320E-0767-433D-9AC1-F7D45BC864C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C9C6C9-1656-4488-8260-ABE34EAC370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F97522-3FEF-4DAF-B245-70106281A9A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AEFEB9-45B1-4629-A40B-65841AE03C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9AA564-8540-486A-BAE6-DE8328230E8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15965E-ACBE-459A-A9B7-4BA64545561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EE1FB0-D402-4CB4-AFFE-7D11064C96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ecf5"/>
            </a:gs>
            <a:gs pos="100000">
              <a:srgbClr val="73a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51DBBC-FF5C-4D53-95D0-546446BFA04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750680" y="1299960"/>
            <a:ext cx="8690040" cy="250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000000"/>
                </a:solidFill>
                <a:latin typeface="Tw Cen MT"/>
              </a:rPr>
              <a:t>NAJZDRAVIJI DNEVNI JELOVNIK NA SVIJETU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ubTitle"/>
          </p:nvPr>
        </p:nvSpPr>
        <p:spPr>
          <a:xfrm>
            <a:off x="1750680" y="3886200"/>
            <a:ext cx="8690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7f7f7f"/>
                </a:solidFill>
                <a:latin typeface="Tw Cen MT"/>
              </a:rPr>
              <a:t> </a:t>
            </a:r>
            <a:r>
              <a:rPr b="0" lang="hr-HR" sz="2200" spc="-1" strike="noStrike">
                <a:solidFill>
                  <a:srgbClr val="7f7f7f"/>
                </a:solidFill>
                <a:latin typeface="Tw Cen MT"/>
              </a:rPr>
              <a:t>3.C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7f7f7f"/>
                </a:solidFill>
                <a:latin typeface="Tw Cen MT"/>
              </a:rPr>
              <a:t>OŠ KRALJICE JELENE, SOLIN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w Cen MT"/>
              </a:rPr>
              <a:t>PRIPREMA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10240" indent="-21024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Pripremiti povrće: oba luka nasjeckati , oguljen i opran krumpir narezati na kockice. Mrkvu očistiti, jednu naribati, jednu nasjeckati na sitnije kockice. Svježu papriku isto nasjeckati na kockice. Piletinu narezati na manje komade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10240" indent="-21024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Zagrijati par žlica kokosovog ulja (bez mirisa i okusa) i pržiti crveni luk, nakon par minuta dodati i bijeli luk. Na luk staviti sjeckanu papriku, ribanu i sjeckanu mrkvu. Dodati piletinu i sve skupa još malo dinstati. Umiješati 2-3 žličice mljevene crvene paprike. Uliti toplu vodu. Kada prokuha dodati začine. Nakon 40ak minuta dodati krumpir i grašak. Kuhati još 20ak minuta pa dodati i curry i leću. Razmutiti kiselo vrhnje i dodati pred kraj kuhanja i zajedno sa usitnjenim peršinom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10240" indent="-21024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DOBAR TEK !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w Cen MT"/>
              </a:rPr>
              <a:t>ZAKLJUČAK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914400" y="2367000"/>
            <a:ext cx="510552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98720" indent="-1987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Ne postoji najzdraviji jelovnik na svijetu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198720" indent="-1987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Svi ljudi su različiti pa je zbog toga i svima potrebna različita količina hranjivih sastojaka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198720" indent="-1987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Trebamo se pridržavati pirmide zdrave prehrane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198720" indent="-1987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Bitno je da jedemo raznoliko, da obroci budu pravilno raspoređeni, ne preveliki ni premali i da budu pripremljeni na pravi način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198720" indent="-1987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198720" indent="-1987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198720" indent="-1987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00" name="Content Placeholder 4" descr=""/>
          <p:cNvPicPr/>
          <p:nvPr/>
        </p:nvPicPr>
        <p:blipFill>
          <a:blip r:embed="rId1"/>
          <a:stretch/>
        </p:blipFill>
        <p:spPr>
          <a:xfrm>
            <a:off x="6340320" y="2560680"/>
            <a:ext cx="455472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w Cen MT"/>
              </a:rPr>
              <a:t>ZDRAVA I NEZDRAVA HRANA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78" name="Content Placeholder 4" descr=""/>
          <p:cNvPicPr/>
          <p:nvPr/>
        </p:nvPicPr>
        <p:blipFill>
          <a:blip r:embed="rId1"/>
          <a:stretch/>
        </p:blipFill>
        <p:spPr>
          <a:xfrm>
            <a:off x="914400" y="2516040"/>
            <a:ext cx="5105520" cy="3125880"/>
          </a:xfrm>
          <a:prstGeom prst="rect">
            <a:avLst/>
          </a:prstGeom>
          <a:ln w="0">
            <a:noFill/>
          </a:ln>
        </p:spPr>
      </p:pic>
      <p:pic>
        <p:nvPicPr>
          <p:cNvPr id="779" name="Content Placeholder 5" descr=""/>
          <p:cNvPicPr/>
          <p:nvPr/>
        </p:nvPicPr>
        <p:blipFill>
          <a:blip r:embed="rId2"/>
          <a:stretch/>
        </p:blipFill>
        <p:spPr>
          <a:xfrm>
            <a:off x="6019920" y="2516040"/>
            <a:ext cx="525780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w Cen MT"/>
              </a:rPr>
              <a:t>UVOD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Da bi mogao sastaviti najzdraviji dnevni jelovnik na svijetu morao sam prvo istražiti što je to zdrava prehrana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* Postoje različite skupine hrane kao npr :vitamini, minerali, proteini, masne kiseline, aminokiseline, ugljikohidrati… Kako bi tjelo bilo zdravo potrebno je konzumirati ispravne količine namirnica iz svih skupina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* Među svim tim sastojcima koji čine hranu nalaze se oni dobri kao i oni loši za tijelo. Ono što sam istraživao je prepoznati koji su koji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* Osim vrste hrane koju jedemo, na naše tijelo utječe i količina koju unosimo.  Kako može biti štetno kad nečeg puno jedemo, tako može biti i ako jedemo malo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w Cen MT"/>
              </a:rPr>
              <a:t>Tako smo došli i do definicije zdrave prehrane koja glasi : </a:t>
            </a:r>
            <a:r>
              <a:rPr b="1" lang="hr-HR" sz="1800" spc="-1" strike="noStrike">
                <a:solidFill>
                  <a:srgbClr val="000000"/>
                </a:solidFill>
                <a:latin typeface="Tw Cen MT"/>
              </a:rPr>
              <a:t>Zdrava prehrana je konzumiranje namirnica iz svih skupina hrane i to u preporučenim količinama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 rot="10800000">
            <a:off x="913680" y="572760"/>
            <a:ext cx="1036332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914040" y="1636200"/>
            <a:ext cx="10363320" cy="41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Namirnice koje jedemo moraju imati pozitivan utjecaj na zdravlje i moraju se jesti prema preporučenim količinama prema piramidi zdrave prehrane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Moraju biti pripremljene na pravi način kako bi se očuvale njihove vrijednosti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Obroci moraju biti preporučenih količina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Moraju se pravilno rasporediti kroz dan i jesti u približno isto vrijeme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Hrana se mora dobro prožvakati i jesti polako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Ne smije biti pokvarena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w Cen MT"/>
              </a:rPr>
              <a:t>PIRAMIDA ZDRAVE PREHRAN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85" name="Content Placeholder 3" descr=""/>
          <p:cNvPicPr/>
          <p:nvPr/>
        </p:nvPicPr>
        <p:blipFill>
          <a:blip r:embed="rId1"/>
          <a:stretch/>
        </p:blipFill>
        <p:spPr>
          <a:xfrm>
            <a:off x="3405240" y="2141640"/>
            <a:ext cx="5016600" cy="39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hr-HR" sz="3600" spc="-1" strike="noStrike">
                <a:solidFill>
                  <a:srgbClr val="000000"/>
                </a:solidFill>
                <a:latin typeface="Tw Cen MT"/>
              </a:rPr>
              <a:t>KOJE SU ZDRAVE NAMIRNIC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Iz piramide vidimo da je našem tijelu najpotrebnija voda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Najviše vitamina i minerala dobivamo iz voća i povrća pa upravo toga treba biti najviše u našim obrocima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Osim toga, trebaju nam i ugljikohidrati i masti jer su glavni izvor energije. Potrebno je izabrati one koje tijelu više pomažu nego štete. Takvi su npr. u cjelovitim žitaricama, heljdi, slanutku, prosu, grahoricama…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Za dobru funkciju mozga potrebne su nam i neke masne kiseline. Najzdravije su one iz orašastih plodova, nekim uljima i sjemenkama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w Cen MT"/>
              </a:rPr>
              <a:t>PRIPREMA HRAN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914400" y="2367000"/>
            <a:ext cx="510552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Sva hrana pržena u ulju gubi svoje vrijedne sastojke i postaje nezdrava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Hranu je bolje peći i koristiti ulja koja ne postaju otrovna na visokim temperaturama npr. kokosovo ulje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Najbolje je kuhati hranu pogotovo na pari jer se tako sačuvaju gotovo svi hranjivi sastojci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90" name="Content Placeholder 4" descr=""/>
          <p:cNvPicPr/>
          <p:nvPr/>
        </p:nvPicPr>
        <p:blipFill>
          <a:blip r:embed="rId1"/>
          <a:stretch/>
        </p:blipFill>
        <p:spPr>
          <a:xfrm>
            <a:off x="6418440" y="2467080"/>
            <a:ext cx="42145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Tw Cen MT"/>
              </a:rPr>
              <a:t>JELOVNIK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914040" y="1740960"/>
            <a:ext cx="10363320" cy="47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 u="sng">
                <a:solidFill>
                  <a:srgbClr val="000000"/>
                </a:solidFill>
                <a:uFillTx/>
                <a:latin typeface="Tw Cen MT"/>
              </a:rPr>
              <a:t>ZAJUTRAK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:   -Banana sa svježim posnim sirom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17080" indent="-217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 u="sng">
                <a:solidFill>
                  <a:srgbClr val="000000"/>
                </a:solidFill>
                <a:uFillTx/>
                <a:latin typeface="Tw Cen MT"/>
              </a:rPr>
              <a:t>DORUČAK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:     -Zobena kaša s jogurtom i sjemenkama lana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02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-Kruške narezane na kriške i posute orasima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17080" indent="-217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 u="sng">
                <a:solidFill>
                  <a:srgbClr val="000000"/>
                </a:solidFill>
                <a:uFillTx/>
                <a:latin typeface="Tw Cen MT"/>
              </a:rPr>
              <a:t>RUČAK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:          -Juha od povrća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02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-Varivo od piletine s lećom i raznovrsnim povrćem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02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-Miješana salata s maslinovim uljem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02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-Frape od malin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17080" indent="-217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 u="sng">
                <a:solidFill>
                  <a:srgbClr val="000000"/>
                </a:solidFill>
                <a:uFillTx/>
                <a:latin typeface="Tw Cen MT"/>
              </a:rPr>
              <a:t>UŽINA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:          - Jabuk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17080" indent="-217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 u="sng">
                <a:solidFill>
                  <a:srgbClr val="000000"/>
                </a:solidFill>
                <a:uFillTx/>
                <a:latin typeface="Tw Cen MT"/>
              </a:rPr>
              <a:t>VEČERA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:        -Salata od mješanog zelenog lisnatog povrća prelivena mediteranskim preljevom 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         (maslinovo ulje, limunov sok, sol, papar), kratko grilani losos sa šalšom od đumbira i 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         mente. Pirjani kupus i grašak posuti sezamovim sjemenkama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17080" indent="-217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          </a:t>
            </a:r>
            <a:r>
              <a:rPr b="0" lang="hr-HR" sz="2000" spc="-1" strike="noStrike">
                <a:solidFill>
                  <a:srgbClr val="000000"/>
                </a:solidFill>
                <a:latin typeface="Tw Cen MT"/>
              </a:rPr>
              <a:t>-Šljive u slatkom umaku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0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593424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Tw Cen MT"/>
              </a:rPr>
              <a:t>VARIVO OD PILETINE S LEĆOM I POVRĆE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94" name="Picture Placeholder 4" descr=""/>
          <p:cNvPicPr/>
          <p:nvPr/>
        </p:nvPicPr>
        <p:blipFill>
          <a:blip r:embed="rId1"/>
          <a:stretch/>
        </p:blipFill>
        <p:spPr>
          <a:xfrm>
            <a:off x="7364520" y="549360"/>
            <a:ext cx="3693960" cy="5302080"/>
          </a:xfrm>
          <a:prstGeom prst="rect">
            <a:avLst/>
          </a:prstGeom>
          <a:ln w="0">
            <a:noFill/>
          </a:ln>
        </p:spPr>
      </p:pic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337680" y="1401480"/>
            <a:ext cx="63867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Tw Cen MT"/>
              </a:rPr>
              <a:t>1,2 kg piletine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Tw Cen MT"/>
              </a:rPr>
              <a:t>3 glavice crvenog luka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Tw Cen MT"/>
              </a:rPr>
              <a:t>3 češnja čršnjaka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Tw Cen MT"/>
              </a:rPr>
              <a:t>1 svježa paprika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Tw Cen MT"/>
              </a:rPr>
              <a:t>2 mrkve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Tw Cen MT"/>
              </a:rPr>
              <a:t>2 krumpira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Tw Cen MT"/>
              </a:rPr>
              <a:t>200 g graška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Tw Cen MT"/>
              </a:rPr>
              <a:t>60 g crvene leće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Tw Cen MT"/>
              </a:rPr>
              <a:t>Mljevena crvena paprika,vegeta,sol,papar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Tw Cen MT"/>
              </a:rPr>
              <a:t>Sjeckani list peršina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Tw Cen MT"/>
              </a:rPr>
              <a:t>1 mala žličica currya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Tw Cen MT"/>
              </a:rPr>
              <a:t>1 žličica kiselog vrhnja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Tw Cen MT"/>
              </a:rPr>
              <a:t>Oko 3 l vode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18T18:22:08Z</dcterms:created>
  <dc:creator>Slavica</dc:creator>
  <dc:description/>
  <dc:language>en-US</dc:language>
  <cp:lastModifiedBy>Zdenka Jerkovic</cp:lastModifiedBy>
  <dcterms:modified xsi:type="dcterms:W3CDTF">2020-06-12T21:58:28Z</dcterms:modified>
  <cp:revision>15</cp:revision>
  <dc:subject/>
  <dc:title>NAJZDRAVIJI DNEVNI JELOVNIK NA SVIJETU</dc:title>
</cp:coreProperties>
</file>