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2CDD-C0B8-4B6B-961B-2928E411984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245-A427-4295-BB52-C4D3352231E8}" type="slidenum">
              <a:rPr b="0" lang="hr-H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F9C-96F4-4090-B049-C7F9CB50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4DF-E6D5-4288-8338-FC078FE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15C-FFED-4BB3-8505-D63C5510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E11-4B5D-4567-8802-CA4934A7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2C3B-05F5-426E-88C7-BEE9531A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EC9A-E3AF-44D3-885B-055DF1CB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79E-1591-4144-A875-346E9124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432-466B-4DC7-A869-4497D460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98D-F334-4E09-933E-D0C9C46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9451-3B1B-4B97-92C5-98609BA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7D5-579C-4CEA-BEC2-E10DAFB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DBB-F950-4D55-B418-EF3BFB13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44C5-A391-47DC-A86C-4DEDEFE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E4DA-DF1A-4464-9B46-BD69904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B84-8FC0-43EF-8C18-CB99EC6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5A1-7496-4252-8F4E-2EE2D4AD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8A6F-66EC-4A75-8EA3-E5B0DCDD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D5B-881D-4205-951A-579B9523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87E-EB6D-4725-8727-2029FF6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234-6EB8-4214-B395-2B1D513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1A0-A3BC-4E20-8C6E-5DEF7E40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352-78F5-4A83-B1D4-3FDA77E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B62-BC37-4DBC-979F-A523108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EFA-3A97-49D1-9177-1654AE2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CF2-3781-4F13-B832-B85EE5126A5A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2F46-3682-45FD-8A8D-850F1127F5ED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000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Book Antiqua"/>
              </a:rPr>
              <a:t>KRAVLJI SI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</a:t>
            </a:r>
            <a:r>
              <a:rPr b="0" lang="hr-HR" sz="1500" spc="-1" strike="noStrike">
                <a:solidFill>
                  <a:srgbClr val="ffffff"/>
                </a:solidFill>
                <a:latin typeface="Book Antiqua"/>
              </a:rPr>
              <a:t>D.J. 3.c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101920" y="1142640"/>
            <a:ext cx="4041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Da bi bilo uopće priče o siru tu su nam </a:t>
            </a:r>
            <a:r>
              <a:rPr b="0" lang="hr-HR" sz="2800" spc="-1" strike="noStrike">
                <a:solidFill>
                  <a:srgbClr val="353436"/>
                </a:solidFill>
                <a:latin typeface="Book Antiqua"/>
              </a:rPr>
              <a:t>muzne krave 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emojmo zaboraviti ljude koji se brinu o kravama o higijeni i štalama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jvažnije za dobar sir je </a:t>
            </a:r>
            <a:r>
              <a:rPr b="0" lang="hr-HR" sz="2800" spc="-1" strike="noStrike">
                <a:solidFill>
                  <a:srgbClr val="0070c0"/>
                </a:solidFill>
                <a:latin typeface="Book Antiqua"/>
              </a:rPr>
              <a:t>kvalitetno i higijenski 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ispravno mlijek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Content Placeholder 3" descr="krave.jpg"/>
          <p:cNvPicPr/>
          <p:nvPr/>
        </p:nvPicPr>
        <p:blipFill>
          <a:blip r:embed="rId1"/>
          <a:stretch/>
        </p:blipFill>
        <p:spPr>
          <a:xfrm>
            <a:off x="0" y="1000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muznja-krava-2-880x495.jpg"/>
          <p:cNvPicPr/>
          <p:nvPr/>
        </p:nvPicPr>
        <p:blipFill>
          <a:blip r:embed="rId2"/>
          <a:stretch/>
        </p:blipFill>
        <p:spPr>
          <a:xfrm>
            <a:off x="2071800" y="2928960"/>
            <a:ext cx="2682720" cy="150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uza.jpg"/>
          <p:cNvPicPr/>
          <p:nvPr/>
        </p:nvPicPr>
        <p:blipFill>
          <a:blip r:embed="rId3"/>
          <a:stretch/>
        </p:blipFill>
        <p:spPr>
          <a:xfrm>
            <a:off x="285840" y="4714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Moje najdraže jelo je </a:t>
            </a:r>
            <a:r>
              <a:rPr b="0" lang="hr-HR" sz="2800" spc="-1" strike="noStrike">
                <a:solidFill>
                  <a:srgbClr val="ff0000"/>
                </a:solidFill>
                <a:latin typeface="Book Antiqua"/>
              </a:rPr>
              <a:t>mladi kravlji sir</a:t>
            </a: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Sir je čvrsta hrana koja nastaje od zgusnutog mlijeka krava, koza, ovaca ili ostalih sisava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okušat ću vam objasniti gdje je počela proizvodnja i što su sve ljudi radili da bi sir došao do vašeg stola. Ako imate domaće mlijeko možete ga pokušati i sami napravit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3" descr="sir.jpg"/>
          <p:cNvPicPr/>
          <p:nvPr/>
        </p:nvPicPr>
        <p:blipFill>
          <a:blip r:embed="rId2"/>
          <a:stretch/>
        </p:blipFill>
        <p:spPr>
          <a:xfrm>
            <a:off x="4857840" y="4572000"/>
            <a:ext cx="285732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irrr.jpg"/>
          <p:cNvPicPr/>
          <p:nvPr/>
        </p:nvPicPr>
        <p:blipFill>
          <a:blip r:embed="rId3"/>
          <a:stretch/>
        </p:blipFill>
        <p:spPr>
          <a:xfrm>
            <a:off x="1000080" y="457200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Mlijeko za sirenje treba imati odgovarajući stupanj kiselosti što ovisi o vrsti sira koji želimo dobiti. Najpraktičnije je kad radimo kući ostaviti večernje mlijeko stajati do jutr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Book Antiqua"/>
              </a:rPr>
              <a:t>Zrenje mlijeka radi se i mljekarama. To je postupak kad se u pasterizirano mlijeko dodaju čiste kulture, koje povećavaju stupanj kiselosti potreban za podsirivanje mlije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69552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Priprema sira 3.jpg"/>
          <p:cNvPicPr/>
          <p:nvPr/>
        </p:nvPicPr>
        <p:blipFill>
          <a:blip r:embed="rId2"/>
          <a:stretch/>
        </p:blipFill>
        <p:spPr>
          <a:xfrm>
            <a:off x="428760" y="1357200"/>
            <a:ext cx="2771640" cy="22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riprema sira 4.jpg"/>
          <p:cNvPicPr/>
          <p:nvPr/>
        </p:nvPicPr>
        <p:blipFill>
          <a:blip r:embed="rId3"/>
          <a:stretch/>
        </p:blipFill>
        <p:spPr>
          <a:xfrm>
            <a:off x="5572080" y="3571920"/>
            <a:ext cx="1724040" cy="2581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857760" y="13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Book Antiqua"/>
              </a:rPr>
              <a:t>Gruš nastao djelovanjem sirila na mlijeko je bijele boje. Stavlja se u posebne kalupe radi oblikovanja sira uobičajenog za pojedine vrste, u prostoriji koja ne smije biti ni pretopla ni prehladna, da se spriječe vrenja koja mogu izazvati napuhavanje sira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Kako_soliti_sir_1-324x235.jpg"/>
          <p:cNvPicPr/>
          <p:nvPr/>
        </p:nvPicPr>
        <p:blipFill>
          <a:blip r:embed="rId2"/>
          <a:stretch/>
        </p:blipFill>
        <p:spPr>
          <a:xfrm>
            <a:off x="642960" y="2286000"/>
            <a:ext cx="2975040" cy="159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sir.jpg"/>
          <p:cNvPicPr/>
          <p:nvPr/>
        </p:nvPicPr>
        <p:blipFill>
          <a:blip r:embed="rId3"/>
          <a:stretch/>
        </p:blipFill>
        <p:spPr>
          <a:xfrm>
            <a:off x="5357880" y="2286000"/>
            <a:ext cx="3119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ilikom izrade svih vrsta sireva, ali i jogurta, nastaje sirutka – tekućina iznimnih nutritivnih svojstav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ces proizvodnje svakog sira počinje zgrušavanjem mlijeka, izdvajanjem mliječnih bjelančevina i većine mliječnih masti. U tom procesu mnoštvo vrijednih nutrijenata topivih u vodi prelazi iz mlijeka u tekućinu koja se tijekom sirenja izdvaja, a nazivamo je sirutk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baviti domaće mlijek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kuhati mlijek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ad dođe do vrenja dodati limun ili oc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ocijediti – odvojiti sir i sirutk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blikujte sir stavite u posudu i frižider na jedan d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3:18:26Z</dcterms:created>
  <dc:creator>Josip</dc:creator>
  <dc:description/>
  <dc:language>en-US</dc:language>
  <cp:lastModifiedBy>Zdenka Jerkovic</cp:lastModifiedBy>
  <dcterms:modified xsi:type="dcterms:W3CDTF">2020-06-12T22:02:53Z</dcterms:modified>
  <cp:revision>16</cp:revision>
  <dc:subject/>
  <dc:title>LJUDSKI RAD I HRANA</dc:title>
</cp:coreProperties>
</file>