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10.png" ContentType="image/png"/>
  <Override PartName="/ppt/media/image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8104-9084-4265-A491-C5BA3B5200CA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E4AD-0B94-494E-99E2-A19705E3EC51}" type="slidenum">
              <a:rPr b="0" lang="hr-H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02DF-6A88-495E-9210-7CF0AA657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61D0-3AF9-4372-BC90-FB770566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FAFA-B6D2-44C2-94F6-686E7E14E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3A4E-73BE-4950-8DA3-48395B40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8308-F399-452E-8F37-5E88D95A7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4194-4B0D-46F7-94FB-88317FA9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B997-8DD9-4B2D-AC90-70258483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6C4B-3118-422D-9F53-63F90A2F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A017-3DBA-4996-B383-4492FB40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81F7-3698-40FF-9C2F-2250D4BC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33D3-7AE4-43BF-A789-1980FDDA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D8AE-2E7F-4BE2-9EEE-819DFCC2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D6E7-DD64-4CF3-9A62-5CEAA4D5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D7E8-B4C7-4B62-B729-8D0B4FF3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53C6-77E3-4548-A02E-30A1A5CB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7F80-5D56-4221-8DD3-0F8E85533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8096-ACAB-455C-888E-03B5E3989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D85F-0719-4F45-B1EE-E2C8163F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3C9D-9AD0-46DE-9787-0F337442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5895-0F6C-4796-A3FE-FE6D7934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3531-E98B-4DBF-B877-CAE897B8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ED11-A5FE-4783-A0B6-6D24DD0A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A832-7529-448A-A5DF-153139EC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57E8-1F10-482E-B650-1FF36DF8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A6AA-4C19-4FAC-9039-67C559BD540D}" type="slidenum">
              <a:rPr b="0" lang="hr-HR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C369-3809-4219-826A-B1B04E22DF1B}" type="slidenum">
              <a:rPr b="0" lang="hr-HR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229600" cy="20001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Book Antiqua"/>
              </a:rPr>
              <a:t>KRAVLJI SIR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Book Antiqua"/>
              </a:rPr>
              <a:t>                                                                                    </a:t>
            </a:r>
            <a:r>
              <a:rPr b="0" lang="hr-HR" sz="1500" spc="-1" strike="noStrike">
                <a:solidFill>
                  <a:srgbClr val="ffffff"/>
                </a:solidFill>
                <a:latin typeface="Book Antiqua"/>
              </a:rPr>
              <a:t>D.J. 3.c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5101920" y="1142640"/>
            <a:ext cx="4041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Da bi bilo uopće priče o siru tu su nam </a:t>
            </a:r>
            <a:r>
              <a:rPr b="0" lang="hr-HR" sz="2800" spc="-1" strike="noStrike">
                <a:solidFill>
                  <a:srgbClr val="353436"/>
                </a:solidFill>
                <a:latin typeface="Book Antiqua"/>
              </a:rPr>
              <a:t>muzne krave !!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Nemojmo zaboraviti ljude koji se brinu o kravama o higijeni i štalama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Najvažnije za dobar sir je </a:t>
            </a:r>
            <a:r>
              <a:rPr b="0" lang="hr-HR" sz="2800" spc="-1" strike="noStrike">
                <a:solidFill>
                  <a:srgbClr val="0070c0"/>
                </a:solidFill>
                <a:latin typeface="Book Antiqua"/>
              </a:rPr>
              <a:t>kvalitetno i higijenski </a:t>
            </a: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ispravno mlijeko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2" name="Content Placeholder 3" descr="krave.jpg"/>
          <p:cNvPicPr/>
          <p:nvPr/>
        </p:nvPicPr>
        <p:blipFill>
          <a:blip r:embed="rId1"/>
          <a:stretch/>
        </p:blipFill>
        <p:spPr>
          <a:xfrm>
            <a:off x="0" y="100008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muznja-krava-2-880x495.jpg"/>
          <p:cNvPicPr/>
          <p:nvPr/>
        </p:nvPicPr>
        <p:blipFill>
          <a:blip r:embed="rId2"/>
          <a:stretch/>
        </p:blipFill>
        <p:spPr>
          <a:xfrm>
            <a:off x="2071800" y="2928960"/>
            <a:ext cx="2682720" cy="1508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muza.jpg"/>
          <p:cNvPicPr/>
          <p:nvPr/>
        </p:nvPicPr>
        <p:blipFill>
          <a:blip r:embed="rId3"/>
          <a:stretch/>
        </p:blipFill>
        <p:spPr>
          <a:xfrm>
            <a:off x="285840" y="471492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457200" y="285840"/>
            <a:ext cx="8229600" cy="787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Moje najdraže jelo je </a:t>
            </a:r>
            <a:r>
              <a:rPr b="0" lang="hr-HR" sz="2800" spc="-1" strike="noStrike">
                <a:solidFill>
                  <a:srgbClr val="ff0000"/>
                </a:solidFill>
                <a:latin typeface="Book Antiqua"/>
              </a:rPr>
              <a:t>mladi kravlji sir</a:t>
            </a: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Sir je čvrsta hrana koja nastaje od zgusnutog mlijeka krava, koza, ovaca ili ostalih sisavac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Pokušat ću vam objasniti gdje je počela proizvodnja i što su sve ljudi radili da bi sir došao do vašeg stola. Ako imate domaće mlijeko možete ga pokušati i sami napraviti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7" name="Picture 3" descr="sir.jpg"/>
          <p:cNvPicPr/>
          <p:nvPr/>
        </p:nvPicPr>
        <p:blipFill>
          <a:blip r:embed="rId2"/>
          <a:stretch/>
        </p:blipFill>
        <p:spPr>
          <a:xfrm>
            <a:off x="4857840" y="4572000"/>
            <a:ext cx="2857320" cy="1695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sirrr.jpg"/>
          <p:cNvPicPr/>
          <p:nvPr/>
        </p:nvPicPr>
        <p:blipFill>
          <a:blip r:embed="rId3"/>
          <a:stretch/>
        </p:blipFill>
        <p:spPr>
          <a:xfrm>
            <a:off x="1000080" y="4572000"/>
            <a:ext cx="2857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Book Antiqua"/>
              </a:rPr>
              <a:t>Mlijeko za sirenje treba imati odgovarajući stupanj kiselosti što ovisi o vrsti sira koji želimo dobiti. Najpraktičnije je kad radimo kući ostaviti večernje mlijeko stajati do jutr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Book Antiqua"/>
              </a:rPr>
              <a:t>Zrenje mlijeka radi se i mljekarama. To je postupak kad se u pasterizirano mlijeko dodaju čiste kulture, koje povećavaju stupanj kiselosti potreban za podsirivanje mlijek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itle 1" descr=""/>
          <p:cNvPicPr/>
          <p:nvPr/>
        </p:nvPicPr>
        <p:blipFill>
          <a:blip r:embed="rId1"/>
          <a:stretch/>
        </p:blipFill>
        <p:spPr>
          <a:xfrm>
            <a:off x="457200" y="706320"/>
            <a:ext cx="8229600" cy="695520"/>
          </a:xfrm>
          <a:prstGeom prst="rect">
            <a:avLst/>
          </a:prstGeom>
          <a:ln w="0">
            <a:noFill/>
          </a:ln>
        </p:spPr>
      </p:pic>
      <p:pic>
        <p:nvPicPr>
          <p:cNvPr id="102" name="Content Placeholder 3" descr="Priprema sira 3.jpg"/>
          <p:cNvPicPr/>
          <p:nvPr/>
        </p:nvPicPr>
        <p:blipFill>
          <a:blip r:embed="rId2"/>
          <a:stretch/>
        </p:blipFill>
        <p:spPr>
          <a:xfrm>
            <a:off x="428760" y="1357200"/>
            <a:ext cx="2771640" cy="2200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Priprema sira 4.jpg"/>
          <p:cNvPicPr/>
          <p:nvPr/>
        </p:nvPicPr>
        <p:blipFill>
          <a:blip r:embed="rId3"/>
          <a:stretch/>
        </p:blipFill>
        <p:spPr>
          <a:xfrm>
            <a:off x="5572080" y="3571920"/>
            <a:ext cx="1724040" cy="25812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3857760" y="13572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Book Antiqua"/>
              </a:rPr>
              <a:t>Gruš nastao djelovanjem sirila na mlijeko je bijele boje. Stavlja se u posebne kalupe radi oblikovanja sira uobičajenog za pojedine vrste, u prostoriji koja ne smije biti ni pretopla ni prehladna, da se spriječe vrenja koja mogu izazvati napuhavanje sira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Kako_soliti_sir_1-324x235.jpg"/>
          <p:cNvPicPr/>
          <p:nvPr/>
        </p:nvPicPr>
        <p:blipFill>
          <a:blip r:embed="rId2"/>
          <a:stretch/>
        </p:blipFill>
        <p:spPr>
          <a:xfrm>
            <a:off x="642960" y="2286000"/>
            <a:ext cx="2975040" cy="1590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sir.jpg"/>
          <p:cNvPicPr/>
          <p:nvPr/>
        </p:nvPicPr>
        <p:blipFill>
          <a:blip r:embed="rId3"/>
          <a:stretch/>
        </p:blipFill>
        <p:spPr>
          <a:xfrm>
            <a:off x="5357880" y="2286000"/>
            <a:ext cx="3119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Prilikom izrade svih vrsta sireva, ali i jogurta, nastaje sirutka – tekućina iznimnih nutritivnih svojstav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Proces proizvodnje svakog sira počinje zgrušavanjem mlijeka, izdvajanjem mliječnih bjelančevina i većine mliječnih masti. U tom procesu mnoštvo vrijednih nutrijenata topivih u vodi prelazi iz mlijeka u tekućinu koja se tijekom sirenja izdvaja, a nazivamo je sirutk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Nabaviti domaće mlijek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Prokuhati mlijeko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Kad dođe do vrenja dodati limun ili oc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Procijediti – odvojiti sir i sirutku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Oblikujte sir stavite u posudu i frižider na jedan da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17T13:18:26Z</dcterms:created>
  <dc:creator>Josip</dc:creator>
  <dc:description/>
  <dc:language>en-US</dc:language>
  <cp:lastModifiedBy>Zdenka Jerkovic</cp:lastModifiedBy>
  <dcterms:modified xsi:type="dcterms:W3CDTF">2020-06-12T22:02:53Z</dcterms:modified>
  <cp:revision>16</cp:revision>
  <dc:subject/>
  <dc:title>LJUDSKI RAD I HRANA</dc:title>
</cp:coreProperties>
</file>