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4F0-CC5D-4E85-90F3-07BB5F35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95F-1AA8-4F0F-96F9-D10CF28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0CF6E-9067-4BF1-B910-58ECA33A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062D-D02B-4DBC-A9DD-C8299C9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3A855-9518-4059-87DE-154FE80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FBB7D-7786-4865-AA70-48137D3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E6ED7-451D-4970-89F1-19D57E6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B065-3DCC-4AA9-963A-47303A9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61F71-A1A5-4C26-96A3-DD2A200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ED00F-8024-47E5-B409-82E9A32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4DA50-BB06-432F-889D-46DA527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23512-CA7F-4ADB-8CE8-7046F9EB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BAB-C86E-4BF3-B394-09B29140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A2FB-AD9E-4275-A7DC-DBD4ADB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970E-97E7-4FC1-9CEB-59A2317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5FDC0-F6F7-4703-BEFE-39CAE5E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D8DD8-42A6-4BAF-A83C-EC53380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07DDE-069B-4706-91B4-2D7CD79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004F-707B-4038-97AA-677B7D8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9E53B-1DD5-43B2-93E0-82BD6E6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ED68C-D8DB-4FFD-8E80-AEEBBD7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54D01-7DE0-4713-9103-787C5819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9E397-3BE4-4386-A111-3C20B79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0A8-0ED8-4412-8B70-ECA47D06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BF71-8F94-48FA-B67B-2E05C560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7021-3FEA-428C-8BD9-9969276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A31A-B192-4127-8D85-0E6EF79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A9AF-39FB-442D-9BD4-1EE7F16B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5F77-F86B-4DAA-980B-5C8DFC6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06492-BD97-4493-B866-AD58072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8CBD3-6E07-4A6A-89F5-A523C77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4CFDF-A18F-4FF7-BAB6-4B9D462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5BC2-51C4-45F3-B66D-25DDD41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969B6-1F2C-4688-8F2F-EDA41DD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420-E5B4-4BA8-B27B-0D520373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E3BDA-4FCA-4706-81FD-57E9167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4C07F-9BAE-494E-8677-CB10B5C3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86F32-6ECD-4BC6-863C-760BD787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0C733-68C7-4854-B15D-454DB7E8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22378-C892-4DDB-A35A-858D6052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39463-EDDA-460C-B0F2-362C6A3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F4819-E48E-48CA-942A-7A0F8C7B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5FD29-7473-4571-9D74-F4BDF4C5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1957C-4A8F-4780-BC0F-03627A3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F9AEC-F448-4BBF-8D91-9727DCD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711C-5393-4BCE-BC14-D8355A6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8FDEE-1E7C-4D3B-B7CA-7903F2B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6A88-CE2E-4E4C-A9C0-15BC5C8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718C6-7504-465E-AE75-58AC2674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1D4A2-7F83-4E56-8542-ECC03043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930B8-40AE-4BC6-8FF6-AAFCD4F5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1407E-BD46-439C-80C2-F58C4A17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B077B-7387-481E-A7A8-512C80A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8994E-3CE7-45CA-8DCC-CAF4F02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CF981-D18B-42BB-9A21-2BE0EFE2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3D954-F440-4112-B3F4-6789B50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1DDC-76DF-42E6-8676-199AF9E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E31BD-FE4C-4443-BCF0-B273303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34F30-A5E0-4832-8ABB-9B820DD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755F9-E12D-416E-9BCF-2DE916D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81524-72D0-4F1E-9F6C-AC8B8FE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CD89F-DB57-4710-A4A3-71ADB30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ABFDE-912B-472C-BF21-39F5FFDD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F8093-BD1E-4AFB-95F2-F4BCBD4D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936D1-AC79-44C7-85FF-E2B14E60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B8AD8-7232-47D6-AEB3-BE64C92B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96177-7693-4451-9A97-B81C578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FABE-26A9-4FCF-8843-2689FCBC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BA4DA-4056-43E0-900C-C660D25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51221-67F6-4264-B6FD-8B212504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C61E4-BC5B-4FCE-B18F-CA8E961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17AF1-2E6A-4EA8-AED0-DAEAAB8C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7192F-F669-4914-B180-3AAFD12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6F1D3-30AB-494E-BEF8-9480B9F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C63C2-462B-44AF-9062-C00D2B8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56305-4BAF-4C1C-AF65-20C550B7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3B124-6236-44BD-87F0-4F26F286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82589-B12D-4680-95A8-DAF84B2B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13C-C675-41DE-B055-56E1E2F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49838-BA5D-4014-8B66-F4834B40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AD131-D4ED-4A31-9783-ADC50E13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6D61B-C978-42FF-9DCA-7F5C32F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78930-B873-45D7-83B3-A1C77470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A0E88-9093-48D0-B810-EA1B713B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F3B86-789C-4782-9231-66BB4B7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C8D27-D3DB-44D6-A344-4154061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FF708-B0C1-4DA0-901A-8FADCFA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222A1-A94C-4799-9E73-7D43CFA0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06111-CDCC-4599-86FD-AD15C539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F686-ED27-4206-9712-E2F8C40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91885-5202-49A4-AB68-5834DD24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FC1FF-473D-4A5E-90ED-14AE4C03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BDD64-30A7-41D2-AAD8-CC12E05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C3D8F-A9D9-4488-81EB-A4730E7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BC3BF-C660-4AA5-B425-6B30F90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5896C-6B1A-4982-8945-44B9739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5D17D-1C13-49BF-B2DF-316C5FC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1CB5E-8FC6-45C5-A55C-9292825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38A9C-09AA-4997-B20F-0006142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1AA2C-5C9F-489A-BECD-BFF61AB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01B-0B7D-4278-91CD-AC08636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6E080-DC49-4B9D-8EB2-930DCE1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C25A5-3737-4BDC-BB42-8A894DC7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CCEDB-C27D-4FE0-AE5F-D44956B2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295D6-7F38-4A0E-BD0C-69C96BD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F98E8-B8D8-4C61-A22D-7C61323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F4E64-57B9-4C07-BF6F-330DF8B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2F569-E64B-48AD-92E7-A9FA1D2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5AC28-E2C4-4EFF-B30A-2F8C367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D91F1-4D09-40E9-9EEA-98AC10A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919A6-A604-467B-AC47-2B8E7CB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060-060B-4680-9284-0B0F7AE3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4E8F-C3DF-4802-9C6C-828ECE7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CDE48-0673-43DE-9E21-8672421B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EDC3E-167E-4047-B2E8-73DA518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9F197-6ECB-4A0E-8645-E191129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5BE4D-6A93-4637-AF98-6589F620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EF8CE-DACB-44F4-A630-91909057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5A951-5DDA-4A74-90C6-EFFE0F60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D79DF-FCF0-4440-A805-6088EB58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6E756-0861-4EC9-96E0-20ABE801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63E5F-CF41-4DF7-A747-1F081A3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188C3-7942-4E91-B4F6-42DB7162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F16-224D-4E0D-933B-F1F8082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C1B80-C474-46E4-8405-8609D9EB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10D13-4262-4E19-8CF0-B34C0B3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80E67-52E3-41EA-A1B5-CA6ECBA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B53CA-CFA2-4138-A97F-70B8BB5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0867E-3707-4C6A-9342-17C3690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6298B-B0CE-42C8-8C25-C487E11F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2FA29-B48F-4B7D-A388-740BE603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567-9728-47C8-9967-93B76AD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C85-3C6E-4C37-ABB2-20EE654B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D2C-9DFB-4BA4-B386-861FB09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B723-416D-46B2-B2F8-F1BFBF44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C3AD-4BF2-4A15-A19F-BD2B929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490E-753C-4073-A7F0-92981779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4223-EF0E-4A93-ADBD-7A5AB38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8F19-6BE7-40EC-BA34-0653F71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B28-343B-49C8-8C08-CE5B497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DF49-A5EC-4906-8A01-91BF8623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7314-4A22-415E-BA35-8F23538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2A1D-D4DB-44E4-86C5-14A3C10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BA10-B6D2-443A-85A7-61897D1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82CE-B6A0-491D-9572-D4A39BC4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DAEE-EF7F-4918-89EA-75EB9118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7C07-B579-4E44-81EA-2BE8EF12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56A1-9D6F-43E7-8A57-41AB024B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8B74-A25D-4DE2-859A-5B93E473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A5D8-3E86-47C2-AC82-0297DA7B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F38-8588-4FB0-A2F4-F11A023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4811-0D65-47EB-85CE-7107DD10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CC0B-416E-470A-A030-4DC883DE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0753-A76E-4C57-881C-78A6944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17AAE-7A76-4BA5-BEF6-EAC4F0E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5733-30DB-4124-B02D-D08A4E5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CB65-96D9-488A-A7E8-3870AB2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B292-733E-41C7-BBAC-1AB46917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D4A0-B7E9-4FAC-8767-BEB14450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2947-0D11-416F-BF8F-7F91E3EF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8817-EAC5-45BF-AA79-8A452DF8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1D6-D005-49C0-96BE-5185D4E4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7F50-DBEE-47D1-BB6D-8FFAF55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41408-B534-4A5D-9E87-DB26E30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3348D-AAAC-4B8A-A037-B9DBEAC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520F-4076-4236-8121-0EB9867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F859-4374-410D-AC59-4B5DB20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17A6-0232-44DE-8C0C-3118CA6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5280-2881-4272-9305-C0228B0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84E1-8D1A-4779-BDB5-F7845216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061D-D8F4-46E3-B375-27ED25F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5883-0968-4C29-9240-6336AFEA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10-123B-415F-8CD5-6CA9CF75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614F-02A4-4BE5-AE0A-7D168815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7AE6-0CD6-47CD-BE1C-85C4E88F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F63A-CAE5-433E-9C8B-AC279ABD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05BB-AC8D-474F-8456-C821E9CA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4D4F-3ECB-4EF6-BA24-CC1D8BD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707C-309A-410F-A8B8-9D0229F7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F538D-3B8F-4889-B9D2-5D7B445B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F9044-0FD4-46C4-9EA5-EC1CA30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4C24-1F85-4EAC-A0D0-432966C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6341-C61E-4469-BB8B-EAE0895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ED3-3858-492F-BE0F-B709934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FA35-6809-4029-B2CA-6D5C6AB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769F2-5647-4DA8-A206-E1460949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7453-2D8E-469A-ACB9-D698A309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E4CA-BEAB-4A96-AAC7-D30279DA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3DB1E-6F88-432F-B18B-6620A7F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1659-F9DA-4BF2-90A1-2196CE0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D83F-1066-428B-A851-03F8A0F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4B876-947E-4550-872A-8AB8F46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A4B82-5251-4CE7-81AE-8DDA8FE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DE07-635E-4113-A3B3-AC21D19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E8C-B925-4E3E-868C-5DA873F0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6DA4-4593-45EF-A4AA-9F06EE3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6DBB-087B-4A8E-B2E5-CCF0BF5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E05A-3B0B-4BF1-BFA5-E65DD8F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DCC8-D74B-4C67-A2E3-E306764F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54448-2950-41AD-AAB1-B8169457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9BB5C-6E44-4B7B-84FA-A053F071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1378-7010-47A4-AF09-079B026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C4BE5-411C-47B2-BFF2-5C84F14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CC87-DC59-4E19-B7B3-B20786C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6E825-D83D-4FD1-8ECE-9496387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7D7-13C7-4FE0-82F5-8040278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2C54-2BD6-445F-B179-C9AFF69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9997-2C28-49E2-BC49-C3C6A888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56F0-7041-43DC-BBF5-5D4ED54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212C-E739-4FCF-8524-8B496DF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6DA6-45D7-45BE-8AEF-782D1E2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92B2-1CF6-4AC7-BE8D-8162E970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491D-6487-47E6-A1FE-BFAEF4AC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F38E-9E39-444B-BAEC-E224E9DE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57EA-9301-4BAD-8EEE-205B805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761C1-9BEC-42A1-8865-66E0FC6D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E6264-A279-4D18-9272-97BCBDFE7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D8A06-6EEA-4632-ADD4-D47D549452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FF0DF-BAF8-47FF-8E9F-B34A48CFB3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D67F5-9679-4A86-AF44-5F1E9D8A5A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7F8AD-691B-4621-8698-011B6E0A1A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3AC63-5EFD-419C-AED4-200655E6F1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259AC-E8DB-48BC-B575-4ACFC07CA0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44024-84B2-4566-BEE5-3673F57F9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FB9E6-3A67-44ED-B388-7E401C3E33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1EC53-4F2B-4278-B6CE-CC8C6D7CE5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F7E39-6131-45A5-A6B7-B283A10E3B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3E670-F357-4AFB-914D-BCAD28EBBB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334A4-2FA2-46BF-A5CB-CAA4E3ADF4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5FCB2-7379-481F-873D-654350EE42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875EB-0FEB-41EA-BC4F-D59EEFB76A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2DC7B-2692-44F3-99B8-E92E13343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6F7B0-0FD5-4E05-87B2-9806B1A286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54A75-383F-4A1E-80A1-6E66FE0E9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w Cen MT"/>
              </a:rPr>
              <a:t>NAJZDRAVIJI DNEVNI JELOVNIK NA SVIJETU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3.C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OŠ KRALJICE JELENE, SOLI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RIPREM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premiti povrće: oba luka nasjeckati , oguljen i opran krumpir narezati na kockice. Mrkvu očistiti, jednu naribati, jednu nasjeckati na sitnije kockice. Svježu papriku isto nasjeckati na kockice. Piletinu narezati na manje komad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0240" indent="-2102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grijati par žlica kokosovog ulja (bez mirisa i okusa) i pržiti crveni luk, nakon par minuta dodati i bijeli luk. Na luk staviti sjeckanu papriku, ribanu i sjeckanu mrkvu. Dodati piletinu i sve skupa još malo dinstati. Umiješati 2-3 žličice mljevene crvene paprike. Uliti toplu vodu. Kada prokuha dodati začine. Nakon 40ak minuta dodati krumpir i grašak. Kuhati još 20ak minuta pa dodati i curry i leću. Razmutiti kiselo vrhnje i dodati pred kraj kuhanja i zajedno sa usitnjenim peršino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0240" indent="-2102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OBAR TEK 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2367000"/>
            <a:ext cx="51055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postoji najzdraviji jelovnik na svijetu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i ljudi su različiti pa je zbog toga i svima potrebna različita količina hranjivih sastojak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ebamo se pridržavati pirmide zdrave prehran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Bitno je da jedemo raznoliko, da obroci budu pravilno raspoređeni, ne preveliki ni premali i da budu pripremljeni na pravi nači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0" name="Content Placeholder 4" descr=""/>
          <p:cNvPicPr/>
          <p:nvPr/>
        </p:nvPicPr>
        <p:blipFill>
          <a:blip r:embed="rId1"/>
          <a:stretch/>
        </p:blipFill>
        <p:spPr>
          <a:xfrm>
            <a:off x="6340320" y="2560680"/>
            <a:ext cx="4554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ZDRAVA I NEZDRAVA HRAN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8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6040"/>
            <a:ext cx="5105520" cy="3125880"/>
          </a:xfrm>
          <a:prstGeom prst="rect">
            <a:avLst/>
          </a:prstGeom>
          <a:ln w="0">
            <a:noFill/>
          </a:ln>
        </p:spPr>
      </p:pic>
      <p:pic>
        <p:nvPicPr>
          <p:cNvPr id="779" name="Content Placeholder 5" descr=""/>
          <p:cNvPicPr/>
          <p:nvPr/>
        </p:nvPicPr>
        <p:blipFill>
          <a:blip r:embed="rId2"/>
          <a:stretch/>
        </p:blipFill>
        <p:spPr>
          <a:xfrm>
            <a:off x="6019920" y="2516040"/>
            <a:ext cx="5257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a bi mogao sastaviti najzdraviji dnevni jelovnik na svijetu morao sam prvo istražiti što je to zdrava prehra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Postoje različite skupine hrane kao npr :vitamini, minerali, proteini, masne kiseline, aminokiseline, ugljikohidrati… Kako bi tjelo bilo zdravo potrebno je konzumirati ispravne količine namirnica iz svih skupin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Među svim tim sastojcima koji čine hranu nalaze se oni dobri kao i oni loši za tijelo. Ono što sam istraživao je prepoznati koji su koji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Osim vrste hrane koju jedemo, na naše tijelo utječe i količina koju unosimo.  Kako može biti štetno kad nečeg puno jedemo, tako može biti i ako jedemo mal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Tako smo došli i do definicije zdrave prehrane koja glasi :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Zdrava prehrana je konzumiranje namirnica iz svih skupina hrane i to u preporučenim količina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 rot="10800000">
            <a:off x="913680" y="572760"/>
            <a:ext cx="10363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914040" y="1636200"/>
            <a:ext cx="1036332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mirnice koje jedemo moraju imati pozitivan utjecaj na zdravlje i moraju se jesti prema preporučenim količinama prema piramidi zdrave prehran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oraju biti pripremljene na pravi način kako bi se očuvale njihove vrijednost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broci moraju biti preporučenih količi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oraju se pravilno rasporediti kroz dan i jesti u približno isto vrijem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Hrana se mora dobro prožvakati i jesti polak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smije biti pokvar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IRAMIDA ZDRAVE PREHRA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5" name="Content Placeholder 3" descr=""/>
          <p:cNvPicPr/>
          <p:nvPr/>
        </p:nvPicPr>
        <p:blipFill>
          <a:blip r:embed="rId1"/>
          <a:stretch/>
        </p:blipFill>
        <p:spPr>
          <a:xfrm>
            <a:off x="3405240" y="2141640"/>
            <a:ext cx="5016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KOJE SU ZDRAVE NAMIRNI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z piramide vidimo da je našem tijelu najpotrebnija vod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jviše vitamina i minerala dobivamo iz voća i povrća pa upravo toga treba biti najviše u našim obrocim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sim toga, trebaju nam i ugljikohidrati i masti jer su glavni izvor energije. Potrebno je izabrati one koje tijelu više pomažu nego štete. Takvi su npr. u cjelovitim žitaricama, heljdi, slanutku, prosu, grahoricama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 dobru funkciju mozga potrebne su nam i neke masne kiseline. Najzdravije su one iz orašastih plodova, nekim uljima i sjemenkam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RIPREMA HRA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400" y="2367000"/>
            <a:ext cx="51055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a hrana pržena u ulju gubi svoje vrijedne sastojke i postaje nezdrav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Hranu je bolje peći i koristiti ulja koja ne postaju otrovna na visokim temperaturama npr. kokosovo ulj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jbolje je kuhati hranu pogotovo na pari jer se tako sačuvaju gotovo svi hranjivi sastojci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Content Placeholder 4" descr=""/>
          <p:cNvPicPr/>
          <p:nvPr/>
        </p:nvPicPr>
        <p:blipFill>
          <a:blip r:embed="rId1"/>
          <a:stretch/>
        </p:blipFill>
        <p:spPr>
          <a:xfrm>
            <a:off x="6418440" y="2467080"/>
            <a:ext cx="4214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w Cen MT"/>
              </a:rPr>
              <a:t>JELOVNIK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1740960"/>
            <a:ext cx="103633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ZAJUTR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-Banana sa svježim posnim sir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DORUČ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-Zobena kaša s jogurtom i sjemenkama la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Kruške narezane na kriške i posute orasi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RUČ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  -Juha od povrć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Varivo od piletine s lećom i raznovrsnim povrć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Miješana salata s maslinovim ulj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Frape od mal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UŽIN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  - Jab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VEČER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-Salata od mješanog zelenog lisnatog povrća prelivena mediteranskim preljevom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(maslinovo ulje, limunov sok, sol, papar), kratko grilani losos sa šalšom od đumbira i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mente. Pirjani kupus i grašak posuti sezamovim sjemenka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Šljive u slatkom umak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59342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ARIVO OD PILETINE S LEĆOM I POVRĆ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4" name="Picture Placeholder 4" descr=""/>
          <p:cNvPicPr/>
          <p:nvPr/>
        </p:nvPicPr>
        <p:blipFill>
          <a:blip r:embed="rId1"/>
          <a:stretch/>
        </p:blipFill>
        <p:spPr>
          <a:xfrm>
            <a:off x="7364520" y="549360"/>
            <a:ext cx="3693960" cy="53020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37680" y="1401480"/>
            <a:ext cx="63867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,2 kg piletin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3 glavice crvenog lu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3 češnja čršnja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svježa papri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 mrkv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 krumpir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00 g graš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60 g crvene leć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Mljevena crvena paprika,vegeta,sol,papar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Sjeckani list peršin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mala žličica curry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žličica kiselog vrhnj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Oko 3 l vod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8T18:22:08Z</dcterms:created>
  <dc:creator>Slavica</dc:creator>
  <dc:description/>
  <dc:language>en-US</dc:language>
  <cp:lastModifiedBy>Zdenka Jerkovic</cp:lastModifiedBy>
  <dcterms:modified xsi:type="dcterms:W3CDTF">2020-06-12T21:58:28Z</dcterms:modified>
  <cp:revision>15</cp:revision>
  <dc:subject/>
  <dc:title>NAJZDRAVIJI DNEVNI JELOVNIK NA SVIJETU</dc:title>
</cp:coreProperties>
</file>